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7A3-5231-45CE-B57C-08B7AA55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D92-2675-47F2-A8F3-9FF07A2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AF5-B05C-4E3C-8B07-02AD09CC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8C6-5198-47E1-838C-CF4B5FEF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5F7-3FC9-4B41-A326-D168059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DFB-221D-44B7-AF14-E144CFC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43A-CA88-487E-A5F3-F3505323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A29-9B57-4D9C-A6E9-A36C7027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49F-C48E-49AD-9B62-BBCEC49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CE4-DAB2-4C38-B168-7D2060E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50C-97EC-41F8-9874-1127FB5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1DA-13B0-4959-9D28-7A444B8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1558-C65D-4D4A-B0B3-CEB7541B6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67160"/>
            <a:ext cx="4724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do we already know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ce disease resistance ge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-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ally mapped to chromosome 1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ybka et al. (1997)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lso been sequenc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yan et al. (1997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8280" y="152280"/>
            <a:ext cx="4280040" cy="3124440"/>
            <a:chOff x="368280" y="152280"/>
            <a:chExt cx="4280040" cy="3124440"/>
          </a:xfrm>
        </p:grpSpPr>
        <p:sp>
          <p:nvSpPr>
            <p:cNvPr id="43" name=""/>
            <p:cNvSpPr/>
            <p:nvPr/>
          </p:nvSpPr>
          <p:spPr>
            <a:xfrm>
              <a:off x="368280" y="622440"/>
              <a:ext cx="42800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p a cloned rice blast resistance gene to its putative location in the rice geno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its position to that of other mapped resistance gen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7200" y="152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TA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724280" y="1828800"/>
            <a:ext cx="4419720" cy="3460680"/>
            <a:chOff x="4724280" y="1828800"/>
            <a:chExt cx="4419720" cy="34606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9501" t="27555" r="28817" b="40383"/>
            <a:stretch/>
          </p:blipFill>
          <p:spPr>
            <a:xfrm>
              <a:off x="4724280" y="3505320"/>
              <a:ext cx="4419720" cy="17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rcRect l="10592" t="30763" r="12773" b="36372"/>
            <a:stretch/>
          </p:blipFill>
          <p:spPr>
            <a:xfrm>
              <a:off x="4724280" y="1828800"/>
              <a:ext cx="4419720" cy="147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1756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792000" cy="145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257800" y="533520"/>
            <a:ext cx="16509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sembl Gene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976" t="16046" r="2969" b="14263"/>
          <a:stretch/>
        </p:blipFill>
        <p:spPr>
          <a:xfrm>
            <a:off x="228600" y="1600200"/>
            <a:ext cx="8153280" cy="472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19720" y="1143000"/>
            <a:ext cx="1447560" cy="533520"/>
          </a:xfrm>
          <a:prstGeom prst="borderCallout1">
            <a:avLst>
              <a:gd name="adj1" fmla="val 18750"/>
              <a:gd name="adj2" fmla="val -8333"/>
              <a:gd name="adj3" fmla="val 119347"/>
              <a:gd name="adj4" fmla="val -9440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 Model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GR gene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447920"/>
            <a:ext cx="2057400" cy="533160"/>
          </a:xfrm>
          <a:prstGeom prst="borderCallout1">
            <a:avLst>
              <a:gd name="adj1" fmla="val 18750"/>
              <a:gd name="adj2" fmla="val -8333"/>
              <a:gd name="adj3" fmla="val 144046"/>
              <a:gd name="adj4" fmla="val -3718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-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rice 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209680"/>
            <a:ext cx="327672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5257800"/>
            <a:ext cx="2362320" cy="137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 Gene Report page provides information about the identity, base pair location on the chromosome, description, and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e Browser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8770" t="29748" r="11385" b="5906"/>
          <a:stretch/>
        </p:blipFill>
        <p:spPr>
          <a:xfrm>
            <a:off x="1981080" y="1447920"/>
            <a:ext cx="6629400" cy="4265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1523880"/>
            <a:ext cx="1676160" cy="1143000"/>
          </a:xfrm>
          <a:prstGeom prst="borderCallout1">
            <a:avLst>
              <a:gd name="adj1" fmla="val 18750"/>
              <a:gd name="adj2" fmla="val -8333"/>
              <a:gd name="adj3" fmla="val 19722"/>
              <a:gd name="adj4" fmla="val 2863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window on chromosome indicates region shown in “Overview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8120"/>
            <a:ext cx="1905120" cy="990360"/>
          </a:xfrm>
          <a:prstGeom prst="borderCallout1">
            <a:avLst>
              <a:gd name="adj1" fmla="val 18750"/>
              <a:gd name="adj2" fmla="val -8333"/>
              <a:gd name="adj3" fmla="val -23717"/>
              <a:gd name="adj4" fmla="val 30025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window on “Overview” indicates region shown in “Detailed View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876920"/>
            <a:ext cx="1523880" cy="520200"/>
          </a:xfrm>
          <a:prstGeom prst="borderCallout1">
            <a:avLst>
              <a:gd name="adj1" fmla="val 18750"/>
              <a:gd name="adj2" fmla="val -8333"/>
              <a:gd name="adj3" fmla="val -236097"/>
              <a:gd name="adj4" fmla="val 36572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est rice mark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e Browser Detailed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9605" t="10382" r="12704" b="50048"/>
          <a:stretch/>
        </p:blipFill>
        <p:spPr>
          <a:xfrm>
            <a:off x="1981080" y="2209680"/>
            <a:ext cx="6934320" cy="28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2133720"/>
            <a:ext cx="1676160" cy="799920"/>
          </a:xfrm>
          <a:prstGeom prst="borderCallout1">
            <a:avLst>
              <a:gd name="adj1" fmla="val 18750"/>
              <a:gd name="adj2" fmla="val -8333"/>
              <a:gd name="adj3" fmla="val 22620"/>
              <a:gd name="adj4" fmla="val 115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additional tracks from the popup men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429000"/>
            <a:ext cx="1828800" cy="762120"/>
          </a:xfrm>
          <a:prstGeom prst="borderCallout1">
            <a:avLst>
              <a:gd name="adj1" fmla="val 18750"/>
              <a:gd name="adj2" fmla="val -8333"/>
              <a:gd name="adj3" fmla="val -19583"/>
              <a:gd name="adj4" fmla="val 18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ion units from TIGR gene mod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501" t="10696" r="11953" b="13368"/>
          <a:stretch/>
        </p:blipFill>
        <p:spPr>
          <a:xfrm>
            <a:off x="304920" y="1371600"/>
            <a:ext cx="6781680" cy="5234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86600" y="5511960"/>
            <a:ext cx="1743120" cy="1159560"/>
          </a:xfrm>
          <a:prstGeom prst="borderCallout1">
            <a:avLst>
              <a:gd name="adj1" fmla="val 18750"/>
              <a:gd name="adj2" fmla="val -8333"/>
              <a:gd name="adj3" fmla="val -12814"/>
              <a:gd name="adj4" fmla="val -15217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get the popup menu. Click “Gramene Marker” to go to marker 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10280" y="2895480"/>
            <a:ext cx="1676160" cy="1350360"/>
            <a:chOff x="7010280" y="2895480"/>
            <a:chExt cx="1676160" cy="1350360"/>
          </a:xfrm>
        </p:grpSpPr>
        <p:sp>
          <p:nvSpPr>
            <p:cNvPr id="98" name=""/>
            <p:cNvSpPr/>
            <p:nvPr/>
          </p:nvSpPr>
          <p:spPr>
            <a:xfrm>
              <a:off x="7010280" y="2995560"/>
              <a:ext cx="66600" cy="361800"/>
            </a:xfrm>
            <a:custGeom>
              <a:avLst/>
              <a:gdLst>
                <a:gd name="textAreaLeft" fmla="*/ 0 w 66600"/>
                <a:gd name="textAreaRight" fmla="*/ 24120 w 66600"/>
                <a:gd name="textAreaTop" fmla="*/ 9360 h 361800"/>
                <a:gd name="textAreaBottom" fmla="*/ 35244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400" y="3848040"/>
              <a:ext cx="66960" cy="309600"/>
            </a:xfrm>
            <a:custGeom>
              <a:avLst/>
              <a:gdLst>
                <a:gd name="textAreaLeft" fmla="*/ 0 w 66960"/>
                <a:gd name="textAreaRight" fmla="*/ 24120 w 66960"/>
                <a:gd name="textAreaTop" fmla="*/ 7920 h 309600"/>
                <a:gd name="textAreaBottom" fmla="*/ 30168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34120" y="2895480"/>
              <a:ext cx="1476360" cy="520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Genes mapped to + stran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34120" y="3725640"/>
              <a:ext cx="1552320" cy="520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Genes mapped to − stran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162920" y="4572000"/>
            <a:ext cx="1752480" cy="533520"/>
          </a:xfrm>
          <a:prstGeom prst="borderCallout1">
            <a:avLst>
              <a:gd name="adj1" fmla="val 18750"/>
              <a:gd name="adj2" fmla="val -8333"/>
              <a:gd name="adj3" fmla="val -95236"/>
              <a:gd name="adj4" fmla="val -114944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tativ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-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i-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 Neighbor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76" t="14414" r="2687" b="9579"/>
          <a:stretch/>
        </p:blipFill>
        <p:spPr>
          <a:xfrm>
            <a:off x="304920" y="2286000"/>
            <a:ext cx="6921360" cy="4359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1680" t="28877" r="3826" b="16199"/>
          <a:stretch/>
        </p:blipFill>
        <p:spPr>
          <a:xfrm>
            <a:off x="3429000" y="1066680"/>
            <a:ext cx="5410080" cy="239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1523880"/>
            <a:ext cx="1676520" cy="609840"/>
          </a:xfrm>
          <a:prstGeom prst="borderCallout1">
            <a:avLst>
              <a:gd name="adj1" fmla="val 18750"/>
              <a:gd name="adj2" fmla="val -8333"/>
              <a:gd name="adj3" fmla="val 244532"/>
              <a:gd name="adj4" fmla="val 174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view marker detai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4229280"/>
            <a:ext cx="1447920" cy="571320"/>
          </a:xfrm>
          <a:prstGeom prst="borderCallout1">
            <a:avLst>
              <a:gd name="adj1" fmla="val 18750"/>
              <a:gd name="adj2" fmla="val -8333"/>
              <a:gd name="adj3" fmla="val 20000"/>
              <a:gd name="adj4" fmla="val -68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view marker on m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ap Comparative Map Vie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36310"/>
          <a:stretch/>
        </p:blipFill>
        <p:spPr>
          <a:xfrm>
            <a:off x="762120" y="1219320"/>
            <a:ext cx="2549520" cy="533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0" t="63693" r="0" b="-433"/>
          <a:stretch/>
        </p:blipFill>
        <p:spPr>
          <a:xfrm>
            <a:off x="4876920" y="1295280"/>
            <a:ext cx="2525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Se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66" t="12975" r="2941" b="3996"/>
          <a:stretch/>
        </p:blipFill>
        <p:spPr>
          <a:xfrm>
            <a:off x="457200" y="114624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ap – Add compar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01" t="18032" r="18749" b="20968"/>
          <a:stretch/>
        </p:blipFill>
        <p:spPr>
          <a:xfrm>
            <a:off x="685800" y="1981080"/>
            <a:ext cx="78566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40500"/>
          <a:stretch/>
        </p:blipFill>
        <p:spPr>
          <a:xfrm>
            <a:off x="685800" y="304920"/>
            <a:ext cx="7896240" cy="609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1910520"/>
            <a:ext cx="1219320" cy="82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resistance g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3967920"/>
            <a:ext cx="1219320" cy="82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resistance Q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a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749" t="22112" r="36299" b="3988"/>
          <a:stretch/>
        </p:blipFill>
        <p:spPr>
          <a:xfrm>
            <a:off x="1447920" y="1219320"/>
            <a:ext cx="614016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178" t="18604" r="3889" b="4858"/>
          <a:stretch/>
        </p:blipFill>
        <p:spPr>
          <a:xfrm>
            <a:off x="380880" y="1295280"/>
            <a:ext cx="6934320" cy="4206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ene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2134" t="56918" r="4242" b="20852"/>
          <a:stretch/>
        </p:blipFill>
        <p:spPr>
          <a:xfrm>
            <a:off x="2971800" y="5410080"/>
            <a:ext cx="572616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33720" y="5257800"/>
            <a:ext cx="60948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ap Featur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183" t="24360" r="3386" b="38734"/>
          <a:stretch/>
        </p:blipFill>
        <p:spPr>
          <a:xfrm>
            <a:off x="533520" y="2286000"/>
            <a:ext cx="8189640" cy="2506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TL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677" t="23037" r="3207" b="18340"/>
          <a:stretch/>
        </p:blipFill>
        <p:spPr>
          <a:xfrm>
            <a:off x="457200" y="1752480"/>
            <a:ext cx="81900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T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195" t="23477" r="3705" b="27691"/>
          <a:stretch/>
        </p:blipFill>
        <p:spPr>
          <a:xfrm>
            <a:off x="457200" y="1981080"/>
            <a:ext cx="810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Gramene recor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from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519" t="11104" r="2941" b="6244"/>
          <a:stretch/>
        </p:blipFill>
        <p:spPr>
          <a:xfrm>
            <a:off x="457200" y="1066680"/>
            <a:ext cx="8199360" cy="561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5486400"/>
            <a:ext cx="274320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t Ontology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351" t="18583" r="3218" b="16691"/>
          <a:stretch/>
        </p:blipFill>
        <p:spPr>
          <a:xfrm>
            <a:off x="457200" y="1905120"/>
            <a:ext cx="81900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Gramene recor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from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19" t="11104" r="2941" b="6244"/>
          <a:stretch/>
        </p:blipFill>
        <p:spPr>
          <a:xfrm>
            <a:off x="457200" y="1066680"/>
            <a:ext cx="8199360" cy="561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84280" y="3146400"/>
            <a:ext cx="1354320" cy="293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i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 product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016" t="28125" r="3023" b="5549"/>
          <a:stretch/>
        </p:blipFill>
        <p:spPr>
          <a:xfrm>
            <a:off x="380880" y="1828800"/>
            <a:ext cx="8263080" cy="434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86600" y="1828800"/>
            <a:ext cx="1523880" cy="380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ene Bla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345" t="20220" r="4140" b="9602"/>
          <a:stretch/>
        </p:blipFill>
        <p:spPr>
          <a:xfrm>
            <a:off x="304920" y="1219320"/>
            <a:ext cx="6121440" cy="27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6022" t="14541" r="26809" b="10842"/>
          <a:stretch/>
        </p:blipFill>
        <p:spPr>
          <a:xfrm>
            <a:off x="3200400" y="1371600"/>
            <a:ext cx="5508720" cy="5288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61120" y="2133720"/>
            <a:ext cx="17640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419720"/>
            <a:ext cx="14479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257800"/>
            <a:ext cx="251460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291" t="18941" r="3417" b="5502"/>
          <a:stretch/>
        </p:blipFill>
        <p:spPr>
          <a:xfrm>
            <a:off x="914400" y="1371600"/>
            <a:ext cx="7242120" cy="463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95480" y="5410080"/>
            <a:ext cx="121932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 Search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sembl protein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58" t="10382" r="2933" b="8442"/>
          <a:stretch/>
        </p:blipFill>
        <p:spPr>
          <a:xfrm>
            <a:off x="685800" y="1447920"/>
            <a:ext cx="7010280" cy="471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38480" y="1603440"/>
            <a:ext cx="480060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 Protein Report page, which provides information about the identity, description, and structure of the prote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362320"/>
            <a:ext cx="1218960" cy="304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20:27:36Z</dcterms:created>
  <dc:creator>Claire</dc:creator>
  <dc:description/>
  <dc:language>en-US</dc:language>
  <cp:lastModifiedBy>Claire</cp:lastModifiedBy>
  <dcterms:modified xsi:type="dcterms:W3CDTF">2006-02-23T20:31:01Z</dcterms:modified>
  <cp:revision>1</cp:revision>
  <dc:subject/>
  <dc:title>Slide 1</dc:title>
</cp:coreProperties>
</file>