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F5A-E554-4D6A-ABBD-9E45B6B9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nd Reverse Prim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ese are the primary defining characteristics of the SSR markers that make it unique. You need to know this if you want to synthesize the primer for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al Tempera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eed to know this to program the 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cted PCR Product siz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 size of the band that you should expect to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ome Positions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ee marker displayed in the genom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s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be available. The images gives a better idea of the range of band sizes on representative germplasm. If  you don’t see a band in the expected size you may need to adjust your PCR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1F9-42C9-4F6B-BF67-5463D8D9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48E-6B87-4C7E-B137-7CA7CBB9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BEE-F285-4BC0-BF9C-BB2436DB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958-FD66-4018-91B5-59FDFE72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92B-5755-444D-9C31-AC75324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4F7-A966-4573-8AC8-13BB7A38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FC6-53C6-4671-B1D1-E5D14027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78E-E6A2-4793-A340-CEF14B3D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F9C-9C3B-47D7-889F-D6AF7FE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5E1-72C6-4DD8-AB8F-4BD09476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783-394F-401D-99DF-0A8ED5A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4F0-786A-44AB-89CA-7E178A8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4AF-270E-4CC5-A167-72A76E91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s-On Exercise: Grain Yield after Mill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eCAPS Gramene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/8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1143000"/>
          <a:ext cx="838224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38224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“mi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724280"/>
            <a:ext cx="2438280" cy="362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720" y="4762440"/>
            <a:ext cx="77148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2057400"/>
          <a:ext cx="556272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556272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600200" y="3886200"/>
            <a:ext cx="289548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715000"/>
            <a:ext cx="289548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24320" y="228600"/>
            <a:ext cx="4819680" cy="38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2286000"/>
          <a:ext cx="60102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6010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38280" y="4800600"/>
          <a:ext cx="615312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00600"/>
                    <a:ext cx="6153120" cy="1295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638680" y="3276720"/>
            <a:ext cx="53352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76720"/>
            <a:ext cx="76176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2286000"/>
          <a:ext cx="791532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79153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162920" y="4800600"/>
            <a:ext cx="1143000" cy="266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609480"/>
          <a:ext cx="292428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609480"/>
                    <a:ext cx="292428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4114800"/>
          <a:ext cx="28954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114800"/>
                    <a:ext cx="2895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CMap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077320" cy="576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67080" y="4495680"/>
            <a:ext cx="2981520" cy="1876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4800" y="5715000"/>
            <a:ext cx="3124080" cy="476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6505560"/>
            <a:ext cx="1066680" cy="352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05120"/>
            <a:ext cx="6553080" cy="76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666880"/>
            <a:ext cx="7924680" cy="3810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5040" y="985680"/>
            <a:ext cx="7875720" cy="4886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6720" y="2362320"/>
            <a:ext cx="1066680" cy="352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410080"/>
            <a:ext cx="1067040" cy="352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6934320" cy="4343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362320" y="914400"/>
          <a:ext cx="43527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3527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724280" y="3200400"/>
            <a:ext cx="304920" cy="352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724280"/>
            <a:ext cx="257184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33520" y="1279440"/>
          <a:ext cx="830556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79440"/>
                    <a:ext cx="830556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1219320"/>
            <a:ext cx="1006560" cy="282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048120"/>
            <a:ext cx="3276720" cy="282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320" y="304920"/>
          <a:ext cx="761976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76197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304920"/>
            <a:ext cx="182880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28600" y="1800360"/>
            <a:ext cx="64580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onduct a trait search for milling yiel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14600" y="2895480"/>
          <a:ext cx="394344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95480"/>
                    <a:ext cx="39434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4825800" y="4221000"/>
            <a:ext cx="352440" cy="247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962520"/>
            <a:ext cx="12859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228600"/>
          <a:ext cx="647712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771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286000"/>
          <a:ext cx="6477120" cy="35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286000"/>
                    <a:ext cx="647712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3520" y="1279440"/>
          <a:ext cx="830556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79440"/>
                    <a:ext cx="830556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295280" y="3352680"/>
            <a:ext cx="3276720" cy="282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i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2666880"/>
          <a:ext cx="606744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0674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895480" y="2895480"/>
            <a:ext cx="25146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714680"/>
          <a:ext cx="83818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14680"/>
                    <a:ext cx="83818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-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47920" y="309600"/>
          <a:ext cx="5506920" cy="65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9600"/>
                    <a:ext cx="550692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162920" y="990720"/>
            <a:ext cx="1981080" cy="466560"/>
          </a:xfrm>
          <a:prstGeom prst="wedgeRoundRectCallout">
            <a:avLst>
              <a:gd name="adj1" fmla="val -176921"/>
              <a:gd name="adj2" fmla="val -123467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m in/out to a desired level of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681280" y="-318960"/>
            <a:ext cx="228600" cy="269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200 h 2695320"/>
              <a:gd name="textAreaBottom" fmla="*/ 2625120 h 26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438280"/>
            <a:ext cx="2460600" cy="828720"/>
          </a:xfrm>
          <a:prstGeom prst="wedgeRoundRectCallout">
            <a:avLst>
              <a:gd name="adj1" fmla="val -8259"/>
              <a:gd name="adj2" fmla="val -1885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! Those above your sequence are on the forward strand, ones below are on the revers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88000">
            <a:off x="1219320" y="990360"/>
            <a:ext cx="291960" cy="466560"/>
          </a:xfrm>
          <a:custGeom>
            <a:avLst/>
            <a:gdLst>
              <a:gd name="textAreaLeft" fmla="*/ 186480 w 291960"/>
              <a:gd name="textAreaRight" fmla="*/ 292320 w 291960"/>
              <a:gd name="textAreaTop" fmla="*/ 11880 h 466560"/>
              <a:gd name="textAreaBottom" fmla="*/ 454680 h 4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350"/>
                </a:lnTo>
                <a:cubicBezTo>
                  <a:pt x="10800" y="11250"/>
                  <a:pt x="5400" y="12150"/>
                  <a:pt x="0" y="12150"/>
                </a:cubicBezTo>
                <a:cubicBezTo>
                  <a:pt x="5400" y="12150"/>
                  <a:pt x="10800" y="13050"/>
                  <a:pt x="10800" y="139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762120"/>
            <a:ext cx="266760" cy="380880"/>
          </a:xfrm>
          <a:custGeom>
            <a:avLst/>
            <a:gdLst/>
            <a:ahLst/>
            <a:rect l="l" t="t" r="r" b="b"/>
            <a:pathLst>
              <a:path w="406" h="705">
                <a:moveTo>
                  <a:pt x="406" y="0"/>
                </a:moveTo>
                <a:lnTo>
                  <a:pt x="105" y="0"/>
                </a:lnTo>
                <a:lnTo>
                  <a:pt x="15" y="30"/>
                </a:lnTo>
                <a:lnTo>
                  <a:pt x="0" y="120"/>
                </a:lnTo>
                <a:lnTo>
                  <a:pt x="0" y="270"/>
                </a:lnTo>
                <a:lnTo>
                  <a:pt x="31" y="7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54160" y="4554360"/>
            <a:ext cx="1846440" cy="466920"/>
          </a:xfrm>
          <a:prstGeom prst="wedgeRoundRectCallout">
            <a:avLst>
              <a:gd name="adj1" fmla="val -59546"/>
              <a:gd name="adj2" fmla="val -77687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options to customize the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267080" y="1371600"/>
            <a:ext cx="990720" cy="741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19520" y="1905120"/>
            <a:ext cx="1676160" cy="466560"/>
          </a:xfrm>
          <a:prstGeom prst="wedgeRoundRectCallout">
            <a:avLst>
              <a:gd name="adj1" fmla="val 28032"/>
              <a:gd name="adj2" fmla="val -165305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a feature to open menu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843280"/>
          <a:ext cx="877248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43280"/>
                    <a:ext cx="877248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709640"/>
          <a:ext cx="914400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9640"/>
                    <a:ext cx="91440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057400" y="3048120"/>
            <a:ext cx="80028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3048120"/>
            <a:ext cx="80028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9144000" cy="2679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429000"/>
            <a:ext cx="8002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505320"/>
            <a:ext cx="80028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572000"/>
            <a:ext cx="30477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3809880"/>
            <a:ext cx="9907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191120"/>
            <a:ext cx="205740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6840" y="676440"/>
            <a:ext cx="8951760" cy="5505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52680" y="6019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6384960"/>
            <a:ext cx="68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emo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Teq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ermplasm in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322800" y="152280"/>
            <a:ext cx="5821200" cy="5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913200" y="685800"/>
            <a:ext cx="5230800" cy="459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5162400" cy="4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2671920"/>
            <a:ext cx="4986360" cy="41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438280" y="2743200"/>
            <a:ext cx="990720" cy="4114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4114800"/>
              <a:gd name="textAreaBottom" fmla="*/ 4066560 h 4114800"/>
            </a:gdLst>
            <a:ahLst/>
            <a:rect l="textAreaLeft" t="textAreaTop" r="textAreaRight" b="textAreaBottom"/>
            <a:pathLst>
              <a:path w="21600" h="89687">
                <a:moveTo>
                  <a:pt x="3600" y="0"/>
                </a:moveTo>
                <a:arcTo wR="3600" hR="3600" stAng="16200000" swAng="-5400000"/>
                <a:lnTo>
                  <a:pt x="0" y="86087"/>
                </a:lnTo>
                <a:arcTo wR="3600" hR="3600" stAng="10800000" swAng="-5400000"/>
                <a:lnTo>
                  <a:pt x="18000" y="89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762120"/>
            <a:ext cx="990360" cy="46479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4647960"/>
              <a:gd name="textAreaBottom" fmla="*/ 4599720 h 4647960"/>
            </a:gdLst>
            <a:ahLst/>
            <a:rect l="textAreaLeft" t="textAreaTop" r="textAreaRight" b="textAreaBottom"/>
            <a:pathLst>
              <a:path w="21600" h="101344">
                <a:moveTo>
                  <a:pt x="3600" y="0"/>
                </a:moveTo>
                <a:arcTo wR="3600" hR="3600" stAng="16200000" swAng="-5400000"/>
                <a:lnTo>
                  <a:pt x="0" y="97744"/>
                </a:lnTo>
                <a:arcTo wR="3600" hR="3600" stAng="10800000" swAng="-5400000"/>
                <a:lnTo>
                  <a:pt x="18000" y="1013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TL search for “milling yield” came up empty. Don’t give up y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site or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52480" y="1219320"/>
          <a:ext cx="58770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19320"/>
                    <a:ext cx="58770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895480" y="2743200"/>
            <a:ext cx="3476880" cy="3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Pathways – search b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480" y="1100160"/>
            <a:ext cx="7772400" cy="5757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19520" y="4114800"/>
            <a:ext cx="121896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24920" cy="432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 flipV="1">
            <a:off x="4952880" y="3962160"/>
            <a:ext cx="914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324120" y="2895120"/>
            <a:ext cx="838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5440" y="490680"/>
            <a:ext cx="7954920" cy="587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95480" y="2286000"/>
            <a:ext cx="29718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5486400"/>
            <a:ext cx="6781680" cy="1219320"/>
          </a:xfrm>
          <a:prstGeom prst="wedgeRoundRectCallout">
            <a:avLst>
              <a:gd name="adj1" fmla="val -26569"/>
              <a:gd name="adj2" fmla="val -18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ine from a gene to a circle - the gene codes for the 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ircles linked together -  a gene product is a subunit of a protein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connected to reaction -reaction is catalyzed by enz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93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228600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895480" y="963720"/>
            <a:ext cx="5302440" cy="5376600"/>
          </a:xfrm>
          <a:custGeom>
            <a:avLst/>
            <a:gdLst/>
            <a:ahLst/>
            <a:rect l="l" t="t" r="r" b="b"/>
            <a:pathLst>
              <a:path w="3340" h="3387">
                <a:moveTo>
                  <a:pt x="0" y="2489"/>
                </a:moveTo>
                <a:cubicBezTo>
                  <a:pt x="243" y="2581"/>
                  <a:pt x="986" y="3387"/>
                  <a:pt x="1456" y="3039"/>
                </a:cubicBezTo>
                <a:cubicBezTo>
                  <a:pt x="1926" y="2691"/>
                  <a:pt x="2504" y="806"/>
                  <a:pt x="2818" y="403"/>
                </a:cubicBezTo>
                <a:cubicBezTo>
                  <a:pt x="3132" y="0"/>
                  <a:pt x="3231" y="575"/>
                  <a:pt x="3340" y="62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1295280"/>
            <a:ext cx="1828800" cy="381240"/>
          </a:xfrm>
          <a:prstGeom prst="wedgeRoundRectCallout">
            <a:avLst>
              <a:gd name="adj1" fmla="val 78731"/>
              <a:gd name="adj2" fmla="val 663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 compl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3809880"/>
            <a:ext cx="2057400" cy="609840"/>
          </a:xfrm>
          <a:prstGeom prst="wedgeRoundRectCallout">
            <a:avLst>
              <a:gd name="adj1" fmla="val 92282"/>
              <a:gd name="adj2" fmla="val -50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 number of catalyzing enzy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3200400"/>
            <a:ext cx="685800" cy="380880"/>
          </a:xfrm>
          <a:prstGeom prst="wedgeRoundRectCallout">
            <a:avLst>
              <a:gd name="adj1" fmla="val -95833"/>
              <a:gd name="adj2" fmla="val 1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980720" y="2590560"/>
            <a:ext cx="3812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7504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276720" cy="6380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2362320" y="533160"/>
            <a:ext cx="419076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4952880"/>
            <a:ext cx="4114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2514600"/>
            <a:ext cx="137160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1143000"/>
            <a:ext cx="1195200" cy="871560"/>
          </a:xfrm>
          <a:prstGeom prst="wedgeRoundRectCallout">
            <a:avLst>
              <a:gd name="adj1" fmla="val -144953"/>
              <a:gd name="adj2" fmla="val 55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(red text). Click for more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6172200"/>
            <a:ext cx="1524240" cy="609480"/>
          </a:xfrm>
          <a:prstGeom prst="wedgeRoundRectCallout">
            <a:avLst>
              <a:gd name="adj1" fmla="val -56458"/>
              <a:gd name="adj2" fmla="val -306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(blue line) Click to go to reactio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752120" y="609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ercise you have simply begun to learn what Gramene can 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complete details on all the features available from each module, review the module tutorials available on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eedback button at the top of every page to submit private questions to the Gramene team. The appropriate person will get back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ublic discussion, join the Gramene list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e whole database for information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1520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4120" y="1905120"/>
            <a:ext cx="3476520" cy="3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36840"/>
            <a:ext cx="8705880" cy="532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86200" y="3962520"/>
            <a:ext cx="704880" cy="36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153640" cy="31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3886200"/>
            <a:ext cx="704880" cy="36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458200" cy="135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52680" y="4114800"/>
            <a:ext cx="704880" cy="36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316240"/>
            <a:ext cx="8686800" cy="31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3429000"/>
            <a:ext cx="990360" cy="36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48040"/>
            <a:ext cx="1295640" cy="362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60958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 the ontologies option for 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5562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 different term. “milling 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 different term. “mill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42320" cy="390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8856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7400" y="2971800"/>
            <a:ext cx="1295280" cy="36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1143000"/>
            <a:ext cx="1295280" cy="188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6:53:00Z</dcterms:created>
  <dc:creator>Claire Hebbard</dc:creator>
  <dc:description/>
  <dc:language>en-US</dc:language>
  <cp:lastModifiedBy>Claire Hebbard</cp:lastModifiedBy>
  <dcterms:modified xsi:type="dcterms:W3CDTF">2006-06-06T16:48:10Z</dcterms:modified>
  <cp:revision>4</cp:revision>
  <dc:subject/>
  <dc:title>Hands-On Exercise: Grain Yield after Milling </dc:title>
</cp:coreProperties>
</file>