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86BA1E-139D-4701-96BE-2845C5FD4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2C2654-99DF-4A03-B2F0-056D2EC5B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B42517-8618-4081-B6CC-4B0167E78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8C7B46-85A8-46CF-A67D-4C32C458A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DABEFA-5E4D-4DD6-8C65-59C349A5B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1 terms - comp 1400, process 8000, function 7300; 86%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AF52-50D8-42F6-8319-317E63A50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4860-BEAA-4D13-86A5-CD1F4F551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B855-2C6F-4ACA-910D-B57928B4B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FE18-524E-4F03-A384-69679239BE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20DC-1B71-43F3-982B-FA54BAAA5C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7384-0B3C-4823-8A48-234155CE9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ED03-78E2-4510-800A-BB7903085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4B2E-AD78-4A45-BB02-32F468EFE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13D5-245B-438D-BC4E-5CCA8ACE4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A604-2C06-48AB-9C75-9B1CC542A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7F3F-308E-4885-8583-4E79B5759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FA22-ACAA-417E-8800-7BA9AC9A1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62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-</a:t>
            </a:r>
            <a:fld id="{807051E5-2446-44DA-8E51-0589B2D6C0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ramene.org/" TargetMode="External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1.wmf"/><Relationship Id="rId5" Type="http://schemas.openxmlformats.org/officeDocument/2006/relationships/image" Target="../media/image20.wmf"/><Relationship Id="rId6" Type="http://schemas.openxmlformats.org/officeDocument/2006/relationships/image" Target="../media/image28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eneontology.org/" TargetMode="External"/><Relationship Id="rId2" Type="http://schemas.openxmlformats.org/officeDocument/2006/relationships/hyperlink" Target="http://www.plantontology.org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16120" y="2743200"/>
            <a:ext cx="39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gramen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143000"/>
            <a:ext cx="8305920" cy="1136160"/>
          </a:xfrm>
          <a:prstGeom prst="rect">
            <a:avLst/>
          </a:prstGeom>
          <a:solidFill>
            <a:srgbClr val="ecf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OLOGY DEVELOPMENT AND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orial exercise: A p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33920" y="3429000"/>
            <a:ext cx="1676160" cy="5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CF9D-D255-4D14-9852-582A5996EB4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Ontology Structure: Cellular component example from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51880" y="1219320"/>
            <a:ext cx="7648200" cy="3933360"/>
            <a:chOff x="551880" y="1219320"/>
            <a:chExt cx="7648200" cy="3933360"/>
          </a:xfrm>
        </p:grpSpPr>
        <p:sp>
          <p:nvSpPr>
            <p:cNvPr id="151" name=""/>
            <p:cNvSpPr/>
            <p:nvPr/>
          </p:nvSpPr>
          <p:spPr>
            <a:xfrm>
              <a:off x="551880" y="1219320"/>
              <a:ext cx="764820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Console"/>
                </a:rPr>
                <a:t>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Console"/>
                </a:rPr>
                <a:t>Mitochondria  membrane  plast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Console"/>
                </a:rPr>
                <a:t>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Lucida Console"/>
                </a:rPr>
                <a:t>chloropla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Console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Lucida Console"/>
                </a:rPr>
                <a:t>mitochondrial        chloropla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Console"/>
                </a:rPr>
                <a:t>membrane             membra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2957040" y="3108240"/>
              <a:ext cx="1219320" cy="99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71600" y="3108240"/>
              <a:ext cx="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652840" y="1736640"/>
              <a:ext cx="1295280" cy="76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40360" y="1711080"/>
              <a:ext cx="1270080" cy="71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30880" y="1888920"/>
              <a:ext cx="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3920" y="3184200"/>
              <a:ext cx="121932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05720" y="30603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30920" y="38858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4920" y="5257800"/>
            <a:ext cx="8686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milarly, in a generic tree one does see a relationship between the cellular component terms but it is NOT clear how they are related. This becomes important because if a user does not know about all the detail components of an organelle he/she will not be able to search/find all the appropriate annotations to a parent organ.  The information remains scattered with no single way to find them all or cluster th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C701-CB42-40E9-9BA0-C7BBB767FD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Ontology Structure: Cellular component example from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1880" y="1143000"/>
            <a:ext cx="7648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itochondria  membrane  plast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chlorop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itochondrial        chlorop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embrane            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57400" y="938160"/>
            <a:ext cx="6747120" cy="3351960"/>
            <a:chOff x="2057400" y="938160"/>
            <a:chExt cx="6747120" cy="3351960"/>
          </a:xfrm>
        </p:grpSpPr>
        <p:grpSp>
          <p:nvGrpSpPr>
            <p:cNvPr id="165" name=""/>
            <p:cNvGrpSpPr/>
            <p:nvPr/>
          </p:nvGrpSpPr>
          <p:grpSpPr>
            <a:xfrm>
              <a:off x="7086600" y="938160"/>
              <a:ext cx="1717920" cy="615600"/>
              <a:chOff x="7086600" y="938160"/>
              <a:chExt cx="1717920" cy="615600"/>
            </a:xfrm>
          </p:grpSpPr>
          <p:sp>
            <p:nvSpPr>
              <p:cNvPr id="166" name=""/>
              <p:cNvSpPr/>
              <p:nvPr/>
            </p:nvSpPr>
            <p:spPr>
              <a:xfrm>
                <a:off x="7901280" y="938160"/>
                <a:ext cx="90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ahoma"/>
                  </a:rPr>
                  <a:t>Part o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366320" y="1185480"/>
                <a:ext cx="143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Tahoma"/>
                  </a:rPr>
                  <a:t>Instance  o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086600" y="1400040"/>
                <a:ext cx="30492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696080" y="109512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057400" y="1750680"/>
              <a:ext cx="4524480" cy="2539440"/>
              <a:chOff x="2057400" y="1750680"/>
              <a:chExt cx="4524480" cy="2539440"/>
            </a:xfrm>
          </p:grpSpPr>
          <p:sp>
            <p:nvSpPr>
              <p:cNvPr id="171" name=""/>
              <p:cNvSpPr/>
              <p:nvPr/>
            </p:nvSpPr>
            <p:spPr>
              <a:xfrm flipH="1">
                <a:off x="2742840" y="3147480"/>
                <a:ext cx="1219320" cy="99000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057400" y="3147480"/>
                <a:ext cx="0" cy="114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437920" y="1775880"/>
                <a:ext cx="1295640" cy="761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826160" y="1750680"/>
                <a:ext cx="1269720" cy="711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16320" y="1928160"/>
                <a:ext cx="0" cy="609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53080" y="3071160"/>
                <a:ext cx="0" cy="3805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19720" y="3223440"/>
                <a:ext cx="1218960" cy="91404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81880" y="3909240"/>
                <a:ext cx="0" cy="380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04920" y="52578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as if the relationship types are established, then it is easy to browse up or down in a tree based on the biological knowledge. Lower down in the tree are finer components, whereas as we go upwards the gross level components are organiz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33D9-F612-4EB6-A582-1F8861744E6E}" type="slidenum">
              <a:t>1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990720"/>
            <a:ext cx="830592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ecula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4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4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4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4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ase activity             Hydrolase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4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4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lutamate-ammonia ligase activity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pha-amylase activit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Ontology Structure: Molecular function example from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28438" r="3127" b="38143"/>
          <a:stretch/>
        </p:blipFill>
        <p:spPr>
          <a:xfrm>
            <a:off x="1066680" y="4114800"/>
            <a:ext cx="7772400" cy="21528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4419720" y="1371600"/>
            <a:ext cx="0" cy="30492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2895480"/>
            <a:ext cx="609840" cy="53352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809880" y="2133720"/>
            <a:ext cx="533520" cy="45720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895480" y="2971800"/>
            <a:ext cx="533520" cy="38088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2133720"/>
            <a:ext cx="609480" cy="53316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1560" y="990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04920" y="1219320"/>
            <a:ext cx="1718280" cy="368280"/>
            <a:chOff x="304920" y="1219320"/>
            <a:chExt cx="1718280" cy="368280"/>
          </a:xfrm>
        </p:grpSpPr>
        <p:sp>
          <p:nvSpPr>
            <p:cNvPr id="191" name=""/>
            <p:cNvSpPr/>
            <p:nvPr/>
          </p:nvSpPr>
          <p:spPr>
            <a:xfrm>
              <a:off x="585000" y="121932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ahoma"/>
                </a:rPr>
                <a:t>Instance 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1433520"/>
              <a:ext cx="3045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EE80-69D7-4288-A0D8-4F5CE132F8CC}" type="slidenum">
              <a:t>12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0880" y="990720"/>
            <a:ext cx="830592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ecula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4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4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4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4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ase activity             Hydrolase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4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4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lutamate-ammonia ligase activity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pha-amylase activit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How ontology helps find your favorite gene/pheno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57200" y="1066680"/>
            <a:ext cx="8381880" cy="2286000"/>
            <a:chOff x="457200" y="1066680"/>
            <a:chExt cx="8381880" cy="2286000"/>
          </a:xfrm>
        </p:grpSpPr>
        <p:sp>
          <p:nvSpPr>
            <p:cNvPr id="197" name=""/>
            <p:cNvSpPr/>
            <p:nvPr/>
          </p:nvSpPr>
          <p:spPr>
            <a:xfrm>
              <a:off x="457200" y="2743200"/>
              <a:ext cx="609480" cy="304920"/>
            </a:xfrm>
            <a:prstGeom prst="borderCallout1">
              <a:avLst>
                <a:gd name="adj1" fmla="val 18750"/>
                <a:gd name="adj2" fmla="val -8333"/>
                <a:gd name="adj3" fmla="val 175523"/>
                <a:gd name="adj4" fmla="val 15156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G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48720" y="2514600"/>
              <a:ext cx="914400" cy="838080"/>
            </a:xfrm>
            <a:prstGeom prst="borderCallout1">
              <a:avLst>
                <a:gd name="adj1" fmla="val 18750"/>
                <a:gd name="adj2" fmla="val -8333"/>
                <a:gd name="adj3" fmla="val 95833"/>
                <a:gd name="adj4" fmla="val -3923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my1, Amy2, Amy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05720" y="1828800"/>
              <a:ext cx="2133360" cy="609480"/>
            </a:xfrm>
            <a:prstGeom prst="borderCallout1">
              <a:avLst>
                <a:gd name="adj1" fmla="val 18750"/>
                <a:gd name="adj2" fmla="val -8333"/>
                <a:gd name="adj3" fmla="val 123958"/>
                <a:gd name="adj4" fmla="val -2812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OSA1, SAP2,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my1, Amy2, Amy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19320" y="2133720"/>
              <a:ext cx="609480" cy="304560"/>
            </a:xfrm>
            <a:prstGeom prst="borderCallout1">
              <a:avLst>
                <a:gd name="adj1" fmla="val 18750"/>
                <a:gd name="adj2" fmla="val -8333"/>
                <a:gd name="adj3" fmla="val 125523"/>
                <a:gd name="adj4" fmla="val 150259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G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29400" y="1066680"/>
              <a:ext cx="2133720" cy="609840"/>
            </a:xfrm>
            <a:prstGeom prst="borderCallout1">
              <a:avLst>
                <a:gd name="adj1" fmla="val 18750"/>
                <a:gd name="adj2" fmla="val -8333"/>
                <a:gd name="adj3" fmla="val 113023"/>
                <a:gd name="adj4" fmla="val -351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GS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OSA1, SAP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my1, Amy2, Amy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419720" y="1371600"/>
            <a:ext cx="0" cy="30492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10080" y="2895480"/>
            <a:ext cx="609840" cy="53352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809880" y="2133720"/>
            <a:ext cx="533520" cy="45720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895480" y="2971800"/>
            <a:ext cx="533520" cy="38088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133720"/>
            <a:ext cx="609480" cy="53316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1560" y="990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04920" y="1219320"/>
            <a:ext cx="1718280" cy="368280"/>
            <a:chOff x="304920" y="1219320"/>
            <a:chExt cx="1718280" cy="368280"/>
          </a:xfrm>
        </p:grpSpPr>
        <p:sp>
          <p:nvSpPr>
            <p:cNvPr id="209" name=""/>
            <p:cNvSpPr/>
            <p:nvPr/>
          </p:nvSpPr>
          <p:spPr>
            <a:xfrm>
              <a:off x="585000" y="121932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ahoma"/>
                </a:rPr>
                <a:t>Instance 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4920" y="1433520"/>
              <a:ext cx="3045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80880" y="3867120"/>
            <a:ext cx="815364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one moves upwards in a tree, the associations (based on annotations) from the children terms are accumulated by the parent terms based on their relationship. Thus you see two types of associ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irect associations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which are exact finer level association to a ontology term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m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genes are directly associated to Alpha-amylase a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direct association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which are accumulated by the parents from their children terms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m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genes are indirectly associated to Alpha-amylase activity, because it is an instance of hydrolase activit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us if a user enters the ontology search/browse using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hydrolase activ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the results will return not only th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SA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AP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genes that are directly associated to this term but also the indirectly associate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m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genes. From this point onwards the user has an option to find the finer level of annotations by going downwards in the tree or get a collective info at gross level by going upwa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9C8F-A4F2-4F17-88D2-F110E7566B7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0" t="18880" r="3127" b="1483"/>
          <a:stretch/>
        </p:blipFill>
        <p:spPr>
          <a:xfrm>
            <a:off x="304920" y="1066680"/>
            <a:ext cx="8305560" cy="4948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2286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Ontology Structure: Biological process example with assoc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5964-C56F-455E-9DE6-68DAD5FCDF7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to search or browse ontologies on the Gramene website at </a:t>
            </a: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gramene.org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?</a:t>
            </a:r>
            <a:br>
              <a:rPr sz="4800"/>
            </a:br>
            <a:br>
              <a:rPr sz="4800"/>
            </a:b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Please follow the instructions / pointers in the following slides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E78B-D4C9-4F0B-82B6-41CA85DBF87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rcRect l="821" t="17441" r="2209" b="46279"/>
          <a:stretch/>
        </p:blipFill>
        <p:spPr>
          <a:xfrm>
            <a:off x="457200" y="1066680"/>
            <a:ext cx="8077320" cy="22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4876920" y="380880"/>
            <a:ext cx="2590560" cy="609840"/>
          </a:xfrm>
          <a:prstGeom prst="wedgeRoundRectCallout">
            <a:avLst>
              <a:gd name="adj1" fmla="val -61643"/>
              <a:gd name="adj2" fmla="val 123439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lick “Ontology” on the Gramene navigation 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1523880"/>
            <a:ext cx="6098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3200400"/>
            <a:ext cx="3200400" cy="304920"/>
          </a:xfrm>
          <a:prstGeom prst="wedgeRoundRectCallout">
            <a:avLst>
              <a:gd name="adj1" fmla="val -42212"/>
              <a:gd name="adj2" fmla="val -316148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lick on  “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urrent Ontologi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1040" y="1995480"/>
            <a:ext cx="12952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rcRect l="2032" t="11953" r="8444" b="35999"/>
          <a:stretch/>
        </p:blipFill>
        <p:spPr>
          <a:xfrm>
            <a:off x="990720" y="3809880"/>
            <a:ext cx="6019560" cy="279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2590920" y="3505320"/>
            <a:ext cx="7596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3657600"/>
            <a:ext cx="1752480" cy="1447920"/>
          </a:xfrm>
          <a:prstGeom prst="wedgeRoundRectCallout">
            <a:avLst>
              <a:gd name="adj1" fmla="val -91486"/>
              <a:gd name="adj2" fmla="val 60305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lick on  “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ROW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 to navigate through the desired ontology ty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52578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2160" y="0"/>
            <a:ext cx="4184280" cy="39888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rowsing the Ontolog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CEF4-4ADD-455A-9931-B968C900BB0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131" t="17441" r="2209" b="49070"/>
          <a:stretch/>
        </p:blipFill>
        <p:spPr>
          <a:xfrm>
            <a:off x="152280" y="2209680"/>
            <a:ext cx="8991720" cy="229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5029200" y="1219320"/>
            <a:ext cx="2590920" cy="609480"/>
          </a:xfrm>
          <a:prstGeom prst="wedgeRoundRectCallout">
            <a:avLst>
              <a:gd name="adj1" fmla="val -52759"/>
              <a:gd name="adj2" fmla="val 187500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“Ontology” on the Gramene navigation 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2666880"/>
            <a:ext cx="6858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5029200"/>
            <a:ext cx="2590560" cy="380880"/>
          </a:xfrm>
          <a:prstGeom prst="wedgeRoundRectCallout">
            <a:avLst>
              <a:gd name="adj1" fmla="val 30087"/>
              <a:gd name="adj2" fmla="val -247500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Gene Ontology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5181480"/>
            <a:ext cx="3810240" cy="609840"/>
          </a:xfrm>
          <a:prstGeom prst="wedgeRoundRectCallout">
            <a:avLst>
              <a:gd name="adj1" fmla="val -50625"/>
              <a:gd name="adj2" fmla="val -251564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 your qu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.g. search for functio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pha-amyl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9360" y="0"/>
            <a:ext cx="5598720" cy="39888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arching the Gene Ontology (GO)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95440" y="40384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8A8D-A02C-483D-9974-F81463CA695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rcRect l="434" t="40985" r="2047" b="7965"/>
          <a:stretch/>
        </p:blipFill>
        <p:spPr>
          <a:xfrm>
            <a:off x="380880" y="2057400"/>
            <a:ext cx="8382240" cy="350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3429000" cy="762120"/>
          </a:xfrm>
          <a:prstGeom prst="wedgeRoundRectCallout">
            <a:avLst>
              <a:gd name="adj1" fmla="val -20277"/>
              <a:gd name="adj2" fmla="val 191250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ion for the Ontology term. Select to view detailed inform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1143000"/>
            <a:ext cx="1523880" cy="685800"/>
          </a:xfrm>
          <a:prstGeom prst="wedgeRoundRectCallout">
            <a:avLst>
              <a:gd name="adj1" fmla="val -131041"/>
              <a:gd name="adj2" fmla="val 244675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ct ontology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1128600"/>
            <a:ext cx="1219320" cy="609840"/>
          </a:xfrm>
          <a:prstGeom prst="wedgeRoundRectCallout">
            <a:avLst>
              <a:gd name="adj1" fmla="val -181902"/>
              <a:gd name="adj2" fmla="val 271875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onyms (if an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1128600"/>
            <a:ext cx="1600200" cy="685800"/>
          </a:xfrm>
          <a:prstGeom prst="wedgeRoundRectCallout">
            <a:avLst>
              <a:gd name="adj1" fmla="val -71726"/>
              <a:gd name="adj2" fmla="val 249074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of the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85920" y="3276720"/>
            <a:ext cx="16765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8640" y="0"/>
            <a:ext cx="4438800" cy="39888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 Ontology (GO) search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CD40-4A9A-45CE-A86C-4F5D4B9A127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1515" t="18373" r="2900" b="37910"/>
          <a:stretch/>
        </p:blipFill>
        <p:spPr>
          <a:xfrm>
            <a:off x="76320" y="1486080"/>
            <a:ext cx="8839080" cy="30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5" name=""/>
          <p:cNvSpPr/>
          <p:nvPr/>
        </p:nvSpPr>
        <p:spPr>
          <a:xfrm>
            <a:off x="6858000" y="304920"/>
            <a:ext cx="2057400" cy="1004760"/>
          </a:xfrm>
          <a:prstGeom prst="wedgeRoundRectCallout">
            <a:avLst>
              <a:gd name="adj1" fmla="val -151851"/>
              <a:gd name="adj2" fmla="val 242416"/>
              <a:gd name="adj3" fmla="val 16667"/>
            </a:avLst>
          </a:prstGeom>
          <a:solidFill>
            <a:srgbClr val="e9e9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lineage of alpha-amylase activity as a molecular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4800600"/>
            <a:ext cx="2590920" cy="609480"/>
          </a:xfrm>
          <a:prstGeom prst="wedgeRoundRectCallout">
            <a:avLst>
              <a:gd name="adj1" fmla="val -5148"/>
              <a:gd name="adj2" fmla="val -219273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-term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[i]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S A (instance/type o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5638680"/>
            <a:ext cx="2286000" cy="1005120"/>
          </a:xfrm>
          <a:prstGeom prst="wedgeRoundRectCallout">
            <a:avLst>
              <a:gd name="adj1" fmla="val -12361"/>
              <a:gd name="adj2" fmla="val -169115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gene products listed in the database associated with this a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4120" y="4114800"/>
            <a:ext cx="3808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91520" y="3733920"/>
            <a:ext cx="3808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2895480" cy="39888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atures of a GO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85800"/>
            <a:ext cx="1066680" cy="838080"/>
          </a:xfrm>
          <a:prstGeom prst="wedgeRoundRectCallout">
            <a:avLst>
              <a:gd name="adj1" fmla="val 57439"/>
              <a:gd name="adj2" fmla="val 102273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ct ontology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609480"/>
            <a:ext cx="1600200" cy="685800"/>
          </a:xfrm>
          <a:prstGeom prst="wedgeRoundRectCallout">
            <a:avLst>
              <a:gd name="adj1" fmla="val -83333"/>
              <a:gd name="adj2" fmla="val 263888"/>
              <a:gd name="adj3" fmla="val 16667"/>
            </a:avLst>
          </a:prstGeom>
          <a:solidFill>
            <a:srgbClr val="e9e9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of the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5029200"/>
            <a:ext cx="1981080" cy="762120"/>
          </a:xfrm>
          <a:prstGeom prst="wedgeRoundRectCallout">
            <a:avLst>
              <a:gd name="adj1" fmla="val -15546"/>
              <a:gd name="adj2" fmla="val -185000"/>
              <a:gd name="adj3" fmla="val 16667"/>
            </a:avLst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andable t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on term to exp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934320" y="5181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30A9-4FEB-4DA0-9AA2-D33BF169A64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What’s in a name/vocabu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define “cell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structural and functional unit of all living organis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vice that delivers an electric current as the result of a chemical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oom where a prisoner is k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mall compartment (e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el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honeyco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mall unit serving as part of or as the nucleus of a larger political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ell can be a whole organism or a part of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642456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urce: GO teaching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83CD-197F-4ED8-83A7-13B59C74622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600200" y="533520"/>
            <a:ext cx="5334120" cy="5866920"/>
            <a:chOff x="1600200" y="533520"/>
            <a:chExt cx="5334120" cy="586692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rcRect l="1515" t="18373" r="2900" b="37910"/>
            <a:stretch/>
          </p:blipFill>
          <p:spPr>
            <a:xfrm>
              <a:off x="1600200" y="533520"/>
              <a:ext cx="5334120" cy="20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2"/>
            <a:srcRect l="777" t="13927" r="2649" b="3507"/>
            <a:stretch/>
          </p:blipFill>
          <p:spPr>
            <a:xfrm>
              <a:off x="1600200" y="2478960"/>
              <a:ext cx="5334120" cy="392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"/>
          <p:cNvSpPr/>
          <p:nvPr/>
        </p:nvSpPr>
        <p:spPr>
          <a:xfrm>
            <a:off x="7315200" y="3733920"/>
            <a:ext cx="1828800" cy="1523880"/>
          </a:xfrm>
          <a:prstGeom prst="wedgeRoundRectCallout">
            <a:avLst>
              <a:gd name="adj1" fmla="val -85592"/>
              <a:gd name="adj2" fmla="val -22083"/>
              <a:gd name="adj3" fmla="val 16667"/>
            </a:avLst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ggests the type of experiments carried out to ascertain its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533520"/>
            <a:ext cx="2362320" cy="761760"/>
          </a:xfrm>
          <a:prstGeom prst="wedgeRoundRectCallout">
            <a:avLst>
              <a:gd name="adj1" fmla="val -99865"/>
              <a:gd name="adj2" fmla="val 230833"/>
              <a:gd name="adj3" fmla="val 16667"/>
            </a:avLst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llows alphabetical sort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5562720"/>
            <a:ext cx="1905120" cy="990360"/>
          </a:xfrm>
          <a:prstGeom prst="wedgeRoundRectCallout">
            <a:avLst>
              <a:gd name="adj1" fmla="val 80500"/>
              <a:gd name="adj2" fmla="val -125000"/>
              <a:gd name="adj3" fmla="val 16667"/>
            </a:avLst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in/gene name. Links to the Gramene Protein Databas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371600"/>
            <a:ext cx="1295280" cy="3124080"/>
          </a:xfrm>
          <a:prstGeom prst="wedgeRoundRectCallout">
            <a:avLst>
              <a:gd name="adj1" fmla="val 76347"/>
              <a:gd name="adj2" fmla="val 38009"/>
              <a:gd name="adj3" fmla="val 16667"/>
            </a:avLst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ldren terms in the tree following the Primary vocabulary term for which the protein function was annot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0120" y="1905120"/>
            <a:ext cx="1523880" cy="533160"/>
          </a:xfrm>
          <a:prstGeom prst="wedgeRoundRectCallout">
            <a:avLst>
              <a:gd name="adj1" fmla="val -110416"/>
              <a:gd name="adj2" fmla="val 76486"/>
              <a:gd name="adj3" fmla="val 16667"/>
            </a:avLst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load the whole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2438280"/>
            <a:ext cx="9907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9520" y="6095880"/>
            <a:ext cx="281916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5562720"/>
            <a:ext cx="2743200" cy="1066680"/>
          </a:xfrm>
          <a:prstGeom prst="wedgeRoundRectCallout">
            <a:avLst>
              <a:gd name="adj1" fmla="val -72453"/>
              <a:gd name="adj2" fmla="val 17856"/>
              <a:gd name="adj3" fmla="val 16667"/>
            </a:avLst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here to find functional homologs from other model organisms. Links to source. The Gene ontology web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 Assoc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FF50-F1EA-4A9E-A372-208CC865B59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-8640" y="0"/>
            <a:ext cx="9152640" cy="6699240"/>
            <a:chOff x="-8640" y="0"/>
            <a:chExt cx="9152640" cy="6699240"/>
          </a:xfrm>
        </p:grpSpPr>
        <p:pic>
          <p:nvPicPr>
            <p:cNvPr id="270" name="" descr=""/>
            <p:cNvPicPr/>
            <p:nvPr/>
          </p:nvPicPr>
          <p:blipFill>
            <a:blip r:embed="rId1"/>
            <a:srcRect l="1049" t="32328" r="6165" b="51861"/>
            <a:stretch/>
          </p:blipFill>
          <p:spPr>
            <a:xfrm>
              <a:off x="0" y="1447920"/>
              <a:ext cx="9144000" cy="1904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71" name=""/>
            <p:cNvSpPr/>
            <p:nvPr/>
          </p:nvSpPr>
          <p:spPr>
            <a:xfrm>
              <a:off x="3886200" y="4495680"/>
              <a:ext cx="2895480" cy="533520"/>
            </a:xfrm>
            <a:prstGeom prst="wedgeRoundRectCallout">
              <a:avLst>
                <a:gd name="adj1" fmla="val -46819"/>
                <a:gd name="adj2" fmla="val -341962"/>
                <a:gd name="adj3" fmla="val 16667"/>
              </a:avLst>
            </a:prstGeom>
            <a:solidFill>
              <a:srgbClr val="e9e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lect “Plant structure (PO)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" y="4038480"/>
              <a:ext cx="2819520" cy="838440"/>
            </a:xfrm>
            <a:prstGeom prst="wedgeRoundRectCallout">
              <a:avLst>
                <a:gd name="adj1" fmla="val 40708"/>
                <a:gd name="adj2" fmla="val -218750"/>
                <a:gd name="adj3" fmla="val 16667"/>
              </a:avLst>
            </a:prstGeom>
            <a:solidFill>
              <a:srgbClr val="e9e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ype your quer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.g. search for the plant part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ul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8640" y="0"/>
              <a:ext cx="5850000" cy="398880"/>
            </a:xfrm>
            <a:prstGeom prst="rect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earching Plant Ontology (PO): Plant 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7600" y="2666880"/>
              <a:ext cx="38088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8305920" y="6477120"/>
              <a:ext cx="68580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843280" y="2414520"/>
              <a:ext cx="585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ul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FA92-66FA-400E-95F7-CC9E3DD8BA5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rcRect l="1049" t="34188" r="2513" b="20232"/>
          <a:stretch/>
        </p:blipFill>
        <p:spPr>
          <a:xfrm>
            <a:off x="304920" y="1981080"/>
            <a:ext cx="8381880" cy="311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8" name=""/>
          <p:cNvSpPr/>
          <p:nvPr/>
        </p:nvSpPr>
        <p:spPr>
          <a:xfrm>
            <a:off x="228600" y="609480"/>
            <a:ext cx="2286000" cy="1143000"/>
          </a:xfrm>
          <a:prstGeom prst="wedgeRoundRectCallout">
            <a:avLst>
              <a:gd name="adj1" fmla="val -20416"/>
              <a:gd name="adj2" fmla="val 131944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ion for the Ontology term.  Select to view detailed inform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990720"/>
            <a:ext cx="1523880" cy="685800"/>
          </a:xfrm>
          <a:prstGeom prst="wedgeRoundRectCallout">
            <a:avLst>
              <a:gd name="adj1" fmla="val -99375"/>
              <a:gd name="adj2" fmla="val 206018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ct ontology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914400"/>
            <a:ext cx="1218960" cy="609480"/>
          </a:xfrm>
          <a:prstGeom prst="wedgeRoundRectCallout">
            <a:avLst>
              <a:gd name="adj1" fmla="val -246745"/>
              <a:gd name="adj2" fmla="val 257814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onyms (if an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914400"/>
            <a:ext cx="1600200" cy="685800"/>
          </a:xfrm>
          <a:prstGeom prst="wedgeRoundRectCallout">
            <a:avLst>
              <a:gd name="adj1" fmla="val -97023"/>
              <a:gd name="adj2" fmla="val 278703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of the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4267080"/>
            <a:ext cx="2057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-7200" y="0"/>
            <a:ext cx="4394520" cy="39888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nt Ontology (PO) search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819520" y="5410080"/>
            <a:ext cx="1981080" cy="533520"/>
          </a:xfrm>
          <a:prstGeom prst="wedgeRoundRectCallout">
            <a:avLst>
              <a:gd name="adj1" fmla="val -42787"/>
              <a:gd name="adj2" fmla="val -210120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ul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a synonym for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77AE-6AC4-4AED-82B9-576E2E2B77D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rcRect l="1781" t="19265" r="3242" b="13117"/>
          <a:stretch/>
        </p:blipFill>
        <p:spPr>
          <a:xfrm>
            <a:off x="457200" y="1295280"/>
            <a:ext cx="7391520" cy="42436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04920" y="4267080"/>
            <a:ext cx="1371600" cy="914400"/>
          </a:xfrm>
          <a:prstGeom prst="wedgeRoundRectCallout">
            <a:avLst>
              <a:gd name="adj1" fmla="val 63194"/>
              <a:gd name="adj2" fmla="val -115972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 PART OF “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hoo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2666880"/>
            <a:ext cx="2286000" cy="838440"/>
          </a:xfrm>
          <a:prstGeom prst="wedgeRoundRectCallout">
            <a:avLst>
              <a:gd name="adj1" fmla="val -110694"/>
              <a:gd name="adj2" fmla="val 46212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 Number of mutants associated with this plant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rcRect l="434" t="72018" r="2047" b="19979"/>
          <a:stretch/>
        </p:blipFill>
        <p:spPr>
          <a:xfrm>
            <a:off x="380880" y="5562720"/>
            <a:ext cx="7467840" cy="609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715000" y="4267080"/>
            <a:ext cx="2743200" cy="762120"/>
          </a:xfrm>
          <a:prstGeom prst="wedgeRoundRectCallout">
            <a:avLst>
              <a:gd name="adj1" fmla="val 11287"/>
              <a:gd name="adj2" fmla="val 154583"/>
              <a:gd name="adj3" fmla="val 16667"/>
            </a:avLst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load/Display all the phenotypes associated with 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5867280"/>
            <a:ext cx="1600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2895480" cy="39888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atures of a PO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0769-DCD9-476E-9D15-4C0C0667910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430" t="24965" r="6046" b="46008"/>
          <a:stretch/>
        </p:blipFill>
        <p:spPr>
          <a:xfrm>
            <a:off x="266760" y="2438280"/>
            <a:ext cx="86104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5" name=""/>
          <p:cNvSpPr/>
          <p:nvPr/>
        </p:nvSpPr>
        <p:spPr>
          <a:xfrm>
            <a:off x="5867280" y="1371600"/>
            <a:ext cx="2819520" cy="762120"/>
          </a:xfrm>
          <a:prstGeom prst="wedgeRoundRectCallout">
            <a:avLst>
              <a:gd name="adj1" fmla="val -29615"/>
              <a:gd name="adj2" fmla="val 126458"/>
              <a:gd name="adj3" fmla="val 16667"/>
            </a:avLst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tant gene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llows alphabetical sort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5334120"/>
            <a:ext cx="1981080" cy="990360"/>
          </a:xfrm>
          <a:prstGeom prst="wedgeRoundRectCallout">
            <a:avLst>
              <a:gd name="adj1" fmla="val -11537"/>
              <a:gd name="adj2" fmla="val -122754"/>
              <a:gd name="adj3" fmla="val 16667"/>
            </a:avLst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tant gene name. Links to the Gramene Mutant Datab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5181480"/>
            <a:ext cx="2133720" cy="1371600"/>
          </a:xfrm>
          <a:prstGeom prst="wedgeRoundRectCallout">
            <a:avLst>
              <a:gd name="adj1" fmla="val 5060"/>
              <a:gd name="adj2" fmla="val -103587"/>
              <a:gd name="adj3" fmla="val 16667"/>
            </a:avLst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ldren terms in the tree following the Primary vocabulary term for which the mutant gene was annot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209680" cy="39888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 Assoc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BEF5-D320-403B-AF21-36E80BB5A6D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rcRect l="1126" t="39463" r="4887" b="42977"/>
          <a:stretch/>
        </p:blipFill>
        <p:spPr>
          <a:xfrm>
            <a:off x="380880" y="1828800"/>
            <a:ext cx="8763120" cy="140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1" name=""/>
          <p:cNvSpPr/>
          <p:nvPr/>
        </p:nvSpPr>
        <p:spPr>
          <a:xfrm>
            <a:off x="4724280" y="4419720"/>
            <a:ext cx="2895840" cy="380880"/>
          </a:xfrm>
          <a:prstGeom prst="wedgeRoundRectCallout">
            <a:avLst>
              <a:gd name="adj1" fmla="val -18583"/>
              <a:gd name="adj2" fmla="val -399583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Growth stage (GRO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343400"/>
            <a:ext cx="2819520" cy="990720"/>
          </a:xfrm>
          <a:prstGeom prst="wedgeRoundRectCallout">
            <a:avLst>
              <a:gd name="adj1" fmla="val 35361"/>
              <a:gd name="adj2" fmla="val -224837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 your qu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.g. search for plant growth stag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er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3600" y="0"/>
            <a:ext cx="5214600" cy="39888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arching Plant Ontology: Growth s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5562720"/>
            <a:ext cx="853452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low the search results by selecting the term e.g.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germin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 in ric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RO:000705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 Display / download all associations to view associated phenotyp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27432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CF41-7900-41FF-BFA4-FB0E75F8B79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rcRect l="1879" t="39463" r="4887" b="42097"/>
          <a:stretch/>
        </p:blipFill>
        <p:spPr>
          <a:xfrm>
            <a:off x="457200" y="2362320"/>
            <a:ext cx="8381880" cy="141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8" name=""/>
          <p:cNvSpPr/>
          <p:nvPr/>
        </p:nvSpPr>
        <p:spPr>
          <a:xfrm>
            <a:off x="3048120" y="4800600"/>
            <a:ext cx="2971800" cy="380880"/>
          </a:xfrm>
          <a:prstGeom prst="wedgeRoundRectCallout">
            <a:avLst>
              <a:gd name="adj1" fmla="val -57476"/>
              <a:gd name="adj2" fmla="val -371250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lect “Trait (TO)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838080"/>
            <a:ext cx="2438280" cy="838440"/>
          </a:xfrm>
          <a:prstGeom prst="wedgeRoundRectCallout">
            <a:avLst>
              <a:gd name="adj1" fmla="val -90171"/>
              <a:gd name="adj2" fmla="val 173296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ype your que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search for plant trai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lant 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8640" y="0"/>
            <a:ext cx="5470560" cy="39888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arching the Trait Ontology (TO)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3352680"/>
            <a:ext cx="3812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B8EE-00F3-4507-8D2A-753B5182F02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rcRect l="777" t="17934" r="2649" b="6715"/>
          <a:stretch/>
        </p:blipFill>
        <p:spPr>
          <a:xfrm>
            <a:off x="304920" y="1066680"/>
            <a:ext cx="8458200" cy="5129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80880" y="685800"/>
            <a:ext cx="2743200" cy="762120"/>
          </a:xfrm>
          <a:prstGeom prst="wedgeRoundRectCallout">
            <a:avLst>
              <a:gd name="adj1" fmla="val -27254"/>
              <a:gd name="adj2" fmla="val 119375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ion for the Ontology term. Select to view detailed inform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4038480"/>
            <a:ext cx="19810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1800" y="0"/>
            <a:ext cx="2331000" cy="39888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search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4686-DEA3-458E-A772-2DD3F03D433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rcRect l="1250" t="30030" r="4796" b="3902"/>
          <a:stretch/>
        </p:blipFill>
        <p:spPr>
          <a:xfrm>
            <a:off x="762120" y="1752480"/>
            <a:ext cx="7162560" cy="402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9" name=""/>
          <p:cNvSpPr/>
          <p:nvPr/>
        </p:nvSpPr>
        <p:spPr>
          <a:xfrm>
            <a:off x="4800600" y="304920"/>
            <a:ext cx="3048120" cy="838080"/>
          </a:xfrm>
          <a:prstGeom prst="wedgeRoundRectCallout">
            <a:avLst>
              <a:gd name="adj1" fmla="val -74532"/>
              <a:gd name="adj2" fmla="val 249620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ontology tree suggests the higher class of trait/category e.g.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ture or vig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3080" y="1295280"/>
            <a:ext cx="2286000" cy="762120"/>
          </a:xfrm>
          <a:prstGeom prst="wedgeRoundRectCallout">
            <a:avLst>
              <a:gd name="adj1" fmla="val -129305"/>
              <a:gd name="adj2" fmla="val 206041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mutants associated with this tra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10280" y="2590920"/>
            <a:ext cx="1828800" cy="1066680"/>
          </a:xfrm>
          <a:prstGeom prst="wedgeRoundRectCallout">
            <a:avLst>
              <a:gd name="adj1" fmla="val -39407"/>
              <a:gd name="adj2" fmla="val 69046"/>
              <a:gd name="adj3" fmla="val 16667"/>
            </a:avLst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load the list of phenotypes associated with trai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lant h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3809880"/>
            <a:ext cx="11430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4191120" cy="39888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Features and Assoc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C4A1-53F8-4775-9B39-C2CB51228CA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ow are associations built in an annotation proc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slides will guide you though themethodologies used by Gramene on associ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 products to Gene Ontology terms for molecular function, biological process and locatlization (expression) in a cellular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enotypes to the plant ontology terms where (plant part) and when (growth stage) the phenotype is ex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6496-5851-4C45-AD1C-796A87671A8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What is an Ontolog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st amounts of biologic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ames/terms for the same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-species comparison is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(part of the) solu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ology : “a controlled vocabulary that can be applied to either all organisms or at least with in a kingdom/sub-class/family even as knowledge of phenotypes and the associated gene and their roles in cells is accumulating and chang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1360" y="990720"/>
            <a:ext cx="87631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 Ontology is a glossary of keywords arranged in a structured order or a  network based on the biological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642456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urce: GO teaching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3C6B-1EDF-4AFD-9C4E-B22459B81B9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247680" y="228600"/>
            <a:ext cx="8744040" cy="6520320"/>
            <a:chOff x="247680" y="228600"/>
            <a:chExt cx="8744040" cy="6520320"/>
          </a:xfrm>
        </p:grpSpPr>
        <p:sp>
          <p:nvSpPr>
            <p:cNvPr id="328" name=""/>
            <p:cNvSpPr/>
            <p:nvPr/>
          </p:nvSpPr>
          <p:spPr>
            <a:xfrm>
              <a:off x="3657600" y="1530360"/>
              <a:ext cx="1447920" cy="98064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lished re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PubM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BIO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Oth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58000" y="1606680"/>
              <a:ext cx="1523880" cy="716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lant Ont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atomy &amp; growth st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3520" y="1530360"/>
              <a:ext cx="1295280" cy="95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otyp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spcBef>
                  <a:spcPts val="87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ut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spcBef>
                  <a:spcPts val="87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QT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2286000" y="1828800"/>
              <a:ext cx="91440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5181480" y="1219320"/>
              <a:ext cx="121788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858000" y="1149480"/>
              <a:ext cx="1523880" cy="264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it Ont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81080" y="1752480"/>
              <a:ext cx="144792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324480" y="1447920"/>
              <a:ext cx="457200" cy="23472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00800" y="1828800"/>
              <a:ext cx="3808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890800"/>
              <a:ext cx="2800440" cy="3858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9440" indent="-10944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lectronic Curation informa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quence simi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908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ustalW / BLA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ceable author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dictions/ident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908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n Ontology map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57780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Gramene &amp; Interpro (EB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908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f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908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S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908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TOM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908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membrane hel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908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ellular loca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908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dictions based on H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908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siochemical proper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908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908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D-Structural align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50000"/>
                </a:lnSpc>
                <a:spcBef>
                  <a:spcPts val="612"/>
                </a:spcBef>
                <a:spcAft>
                  <a:spcPts val="34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BXref / Refere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8000" y="3276720"/>
              <a:ext cx="1828800" cy="980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ene Ont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lecular 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iological proc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ellular loca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520" y="3359160"/>
              <a:ext cx="1523880" cy="84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ne prod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spcBef>
                  <a:spcPts val="87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tein Seque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3"/>
            <a:stretch/>
          </p:blipFill>
          <p:spPr>
            <a:xfrm>
              <a:off x="1447920" y="4191120"/>
              <a:ext cx="144756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209680" y="3657600"/>
              <a:ext cx="762120" cy="4572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3968640"/>
              <a:ext cx="5331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2209680" y="2139480"/>
              <a:ext cx="1219320" cy="12956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43600" y="2590920"/>
              <a:ext cx="914400" cy="6094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7680" y="228600"/>
              <a:ext cx="8686800" cy="740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Arial"/>
                </a:rPr>
                <a:t>Annotation-I: How are associations built in an annotation proces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Arial"/>
                </a:rPr>
                <a:t>Manual Vs Electronic (comput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4"/>
            <a:stretch/>
          </p:blipFill>
          <p:spPr>
            <a:xfrm>
              <a:off x="8305920" y="6477120"/>
              <a:ext cx="685800" cy="22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7" name=""/>
            <p:cNvGrpSpPr/>
            <p:nvPr/>
          </p:nvGrpSpPr>
          <p:grpSpPr>
            <a:xfrm>
              <a:off x="6172200" y="5105520"/>
              <a:ext cx="2514600" cy="1066680"/>
              <a:chOff x="6172200" y="5105520"/>
              <a:chExt cx="2514600" cy="1066680"/>
            </a:xfrm>
          </p:grpSpPr>
          <p:sp>
            <p:nvSpPr>
              <p:cNvPr id="348" name=""/>
              <p:cNvSpPr/>
              <p:nvPr/>
            </p:nvSpPr>
            <p:spPr>
              <a:xfrm>
                <a:off x="6172200" y="5105520"/>
                <a:ext cx="2209680" cy="1066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477120" y="5562720"/>
                <a:ext cx="380880" cy="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77120" y="5952960"/>
                <a:ext cx="3045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58000" y="5257800"/>
                <a:ext cx="182880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mput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nu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544D-9F9C-4000-A729-113AD8DF976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304920" y="838080"/>
            <a:ext cx="8372520" cy="3705480"/>
            <a:chOff x="304920" y="838080"/>
            <a:chExt cx="8372520" cy="370548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rcRect l="16092" t="35857" r="3250" b="27902"/>
            <a:stretch/>
          </p:blipFill>
          <p:spPr>
            <a:xfrm>
              <a:off x="304920" y="838080"/>
              <a:ext cx="8372520" cy="3705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54" name=""/>
            <p:cNvSpPr/>
            <p:nvPr/>
          </p:nvSpPr>
          <p:spPr>
            <a:xfrm>
              <a:off x="4836960" y="3739320"/>
              <a:ext cx="1419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33800" y="3739320"/>
              <a:ext cx="92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17840" y="4010760"/>
              <a:ext cx="7801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7" name=""/>
          <p:cNvGraphicFramePr/>
          <p:nvPr/>
        </p:nvGraphicFramePr>
        <p:xfrm>
          <a:off x="228600" y="5105520"/>
          <a:ext cx="3733920" cy="1279440"/>
        </p:xfrm>
        <a:graphic>
          <a:graphicData uri="http://schemas.openxmlformats.org/drawingml/2006/table">
            <a:tbl>
              <a:tblPr/>
              <a:tblGrid>
                <a:gridCol w="1300320"/>
                <a:gridCol w="1374480"/>
                <a:gridCol w="1059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xidase enzy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xidoreductase 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:0016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osynthesis of gibbrel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ibberellic acid biosynth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:00096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ed h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nt h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:000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4114800" y="5029200"/>
          <a:ext cx="4114800" cy="1341360"/>
        </p:xfrm>
        <a:graphic>
          <a:graphicData uri="http://schemas.openxmlformats.org/drawingml/2006/table">
            <a:tbl>
              <a:tblPr/>
              <a:tblGrid>
                <a:gridCol w="1422360"/>
                <a:gridCol w="1622520"/>
                <a:gridCol w="1069920"/>
              </a:tblGrid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xidase enzy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ibberellin 20-oxidase activity</a:t>
                      </a:r>
                      <a:r>
                        <a:rPr b="0" i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:00455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osynthesis of gibbrel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ibberellic acid biosynth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:00096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ed h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lm length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:00003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304920" y="46483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From abstract (manual/compu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1012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From manual curation and further 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43520" y="6496200"/>
            <a:ext cx="472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** Annotations were modified based on further re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304920"/>
            <a:ext cx="8001000" cy="337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How are associations built as part of annotation exerci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77040" y="4943520"/>
            <a:ext cx="106704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Tr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25880" y="46483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503D-AB24-4D33-8DE8-20097E67754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rcRect l="14844" t="26344" r="3127" b="17742"/>
          <a:stretch/>
        </p:blipFill>
        <p:spPr>
          <a:xfrm>
            <a:off x="533520" y="762120"/>
            <a:ext cx="8253360" cy="47257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698480" y="144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85680"/>
            <a:ext cx="5334120" cy="740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Ontology 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TRY ON YOUR OWN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57200" y="5638680"/>
            <a:ext cx="7824960" cy="916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ake your own assertions on which of the ontology terms from either the GO, PO or TO vocabularies appropriately match to the function and phenotype traits associated to PLASTOCHRON1 ge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488F-5B55-4E1C-B6AA-992B54C8478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rcRect l="14844" t="26344" r="3127" b="17742"/>
          <a:stretch/>
        </p:blipFill>
        <p:spPr>
          <a:xfrm>
            <a:off x="128520" y="838080"/>
            <a:ext cx="8915400" cy="51055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929120" y="407196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757920" y="4038120"/>
            <a:ext cx="2157480" cy="33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9760" y="429588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2440" y="4300560"/>
            <a:ext cx="1523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5080" y="430056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57320" y="475308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05640" y="4767120"/>
            <a:ext cx="2438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5720" y="50292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33640" y="5029200"/>
            <a:ext cx="7010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09760" y="5257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24160" y="5486400"/>
            <a:ext cx="4038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98480" y="144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57400" y="85680"/>
            <a:ext cx="5334120" cy="740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Ontology 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TRY ON YOUR OWN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890640" y="5943600"/>
            <a:ext cx="731520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r clues, please see the underlined portions of the text, to make your own assertions on the use of either the GO, PO or TO vocabula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0508-4E66-419A-AA07-5D01BCB7DBE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Ontology Annotation includes various experimental evidence codes suggesting how the ontology term to gene/phenotype association was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erred from Sequence/Structural Simi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erred from Direct Ass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erred from Physic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ceable Author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traceable Author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erred from Mutant Phen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G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erred from Genetic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erred from Expression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erred by Cu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Data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erred from electronic an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7162920" y="586728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57200" y="1828800"/>
            <a:ext cx="8229600" cy="37339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5829480"/>
            <a:ext cx="822960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936720" cy="9320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6858000" y="4240080"/>
            <a:ext cx="1611360" cy="10702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5867280" y="3505320"/>
            <a:ext cx="1162080" cy="11635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7086600" y="2590920"/>
            <a:ext cx="1295280" cy="11300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7162920" y="1905120"/>
            <a:ext cx="1143000" cy="2919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24A8-8596-47A8-89ED-09C210CC7C6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751120" y="838080"/>
            <a:ext cx="36432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What else can YOU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38080" y="2057400"/>
            <a:ext cx="72392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us your review of the terms, definitions and relationships to ensure accur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ggest new terms, definitions, or improvements to the struc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the terms in describing data in publications and databa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396252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your project on cereal plants is generating data sets that may require these kinds of annotations and associations, please feel free to reach us at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gramene@gramene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We will be happy to help guide you through the annotation process and if necessary in setting up an Ontology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EF5F-FD24-42D8-8A4D-5B84B76D158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rcRect l="0" t="13927" r="2025" b="57215"/>
          <a:stretch/>
        </p:blipFill>
        <p:spPr>
          <a:xfrm>
            <a:off x="324000" y="2514600"/>
            <a:ext cx="8705880" cy="199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2" name=""/>
          <p:cNvSpPr/>
          <p:nvPr/>
        </p:nvSpPr>
        <p:spPr>
          <a:xfrm>
            <a:off x="304920" y="30492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 for using this tutoria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ppreciate your comments or suggestio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4800600" y="1371600"/>
            <a:ext cx="3048120" cy="914400"/>
          </a:xfrm>
          <a:prstGeom prst="wedgeRoundRectCallout">
            <a:avLst>
              <a:gd name="adj1" fmla="val 59217"/>
              <a:gd name="adj2" fmla="val 105902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Please click here to send your feed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2666880"/>
            <a:ext cx="12189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33920" y="4648320"/>
            <a:ext cx="4267080" cy="1218960"/>
          </a:xfrm>
          <a:prstGeom prst="wedgeRoundRectCallout">
            <a:avLst>
              <a:gd name="adj1" fmla="val 34263"/>
              <a:gd name="adj2" fmla="val -123699"/>
              <a:gd name="adj3" fmla="val 16667"/>
            </a:avLst>
          </a:prstGeom>
          <a:solidFill>
            <a:srgbClr val="e9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f you have questions? Please browse the Frequently Asked Questions (F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0880" y="5867280"/>
            <a:ext cx="8534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You can also reach us by sending e-mail at 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gramene@gramen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15200" y="3429000"/>
            <a:ext cx="6858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442C-5415-4954-9B75-65EAE5AE693A}" type="slidenum">
              <a:t>3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What is an Ontolo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system of nomenclature or a list of gene products/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doesn’t attempt to cover all aspects of biology or evolutionary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ictated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way to unify datab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llows the users to query the different databases using the same keywords and query strings provided those different databases have implemented the commonly adopted ontolo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2456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urce: GO teaching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7427-76E4-4843-868D-36187ECAC7B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487440"/>
            <a:ext cx="8686800" cy="610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ramene we have ontologies describing three different types of biological concep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48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Gene Ontology (GO)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o describe a protein/gene's biochemical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olecular Fun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transporter, enzy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in a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Biological Proc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photosynthesis, defense respon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ation in a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Cellular Compon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plastid, cell w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48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lant Ontology (PO)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scribe a protein/gene/phenotype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lant Structure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panicle, flower, xylem, phlo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a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rowth Stage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germination, embryo developmen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480">
              <a:lnSpc>
                <a:spcPct val="100000"/>
              </a:lnSpc>
              <a:spcBef>
                <a:spcPts val="1250"/>
              </a:spcBef>
              <a:buClr>
                <a:srgbClr val="ff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cc"/>
                </a:solidFill>
                <a:uFillTx/>
                <a:latin typeface="Arial"/>
              </a:rPr>
              <a:t>Trait Ontology (TO)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scribe the observable feature assayed to determine the pheno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1250"/>
              </a:spcBef>
              <a:buClr>
                <a:srgbClr val="ff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Plant trai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leaf color, plant height, disease resist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57680" y="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ow does it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7825-837E-4407-8451-6C85E30853C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Anatomy of an ont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5320" y="1549440"/>
            <a:ext cx="84582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tology terms are compos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tion (more than 75% of terms defi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onyms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 references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ships to other terms in the sam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600+ Gene Ontology term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rom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 consortiu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0+ Trait Ontology term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rom Grame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0+ plant structure term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rom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PO consortiu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+ cereal plant growth stages term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rom Grame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8F65-3149-46D0-AC2B-6F832EE547A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219320"/>
            <a:ext cx="868680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Instance of (is a, type o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to describe the relationship between a child term that represents a specific type of a more general parent term.  For example: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ryop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type of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ru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nic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floresce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Part of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to indicate the relationship between a child term that is a part of the parent term. For example: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ctocar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part of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ericar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n turn is part of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ru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Develops from: (used only in plant structure ontolo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to describe the relationship between a child term that develops from its parent term. For example: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ot hai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velops from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ichoblas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3328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Each 'child term' has a unique relationship to its 'parent term'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53AA-B7D7-4103-9618-978CC86D083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772400" y="385920"/>
            <a:ext cx="1066680" cy="228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108080" y="669960"/>
            <a:ext cx="6324120" cy="5898600"/>
            <a:chOff x="1108080" y="669960"/>
            <a:chExt cx="6324120" cy="5898600"/>
          </a:xfrm>
        </p:grpSpPr>
        <p:sp>
          <p:nvSpPr>
            <p:cNvPr id="73" name=""/>
            <p:cNvSpPr/>
            <p:nvPr/>
          </p:nvSpPr>
          <p:spPr>
            <a:xfrm>
              <a:off x="4384440" y="669960"/>
              <a:ext cx="1666440" cy="414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lant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41240" y="2422440"/>
              <a:ext cx="1447560" cy="414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floresc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69840" y="3260520"/>
              <a:ext cx="990360" cy="414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l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18160" y="2498400"/>
              <a:ext cx="914040" cy="412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iss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89360" y="1508040"/>
              <a:ext cx="914040" cy="412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rg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13240" y="6080040"/>
              <a:ext cx="1066320" cy="412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apet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93720" y="4555800"/>
              <a:ext cx="990360" cy="412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am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98640" y="5317920"/>
              <a:ext cx="1142640" cy="412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n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46360" y="6156000"/>
              <a:ext cx="1066320" cy="412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oll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41240" y="1508040"/>
              <a:ext cx="1302840" cy="414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ho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13040" y="3590640"/>
              <a:ext cx="1294920" cy="3459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loral org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08080" y="4555800"/>
              <a:ext cx="990360" cy="412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p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50720" y="4555800"/>
              <a:ext cx="990360" cy="412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447920" y="1050840"/>
            <a:ext cx="5333400" cy="5105160"/>
            <a:chOff x="1447920" y="1050840"/>
            <a:chExt cx="5333400" cy="5105160"/>
          </a:xfrm>
        </p:grpSpPr>
        <p:sp>
          <p:nvSpPr>
            <p:cNvPr id="87" name=""/>
            <p:cNvSpPr/>
            <p:nvPr/>
          </p:nvSpPr>
          <p:spPr>
            <a:xfrm>
              <a:off x="6019560" y="1126800"/>
              <a:ext cx="761760" cy="12193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1447920" y="1050840"/>
              <a:ext cx="5257440" cy="5105160"/>
              <a:chOff x="1447920" y="1050840"/>
              <a:chExt cx="5257440" cy="5105160"/>
            </a:xfrm>
          </p:grpSpPr>
          <p:sp>
            <p:nvSpPr>
              <p:cNvPr id="89" name=""/>
              <p:cNvSpPr/>
              <p:nvPr/>
            </p:nvSpPr>
            <p:spPr>
              <a:xfrm>
                <a:off x="2414520" y="3717720"/>
                <a:ext cx="1294920" cy="76212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1447920" y="1050840"/>
                <a:ext cx="5257440" cy="5105160"/>
                <a:chOff x="1447920" y="1050840"/>
                <a:chExt cx="5257440" cy="5105160"/>
              </a:xfrm>
            </p:grpSpPr>
            <p:sp>
              <p:nvSpPr>
                <p:cNvPr id="91" name=""/>
                <p:cNvSpPr/>
                <p:nvPr/>
              </p:nvSpPr>
              <p:spPr>
                <a:xfrm flipH="1">
                  <a:off x="2818800" y="1050840"/>
                  <a:ext cx="1294920" cy="53316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133360" y="287964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33360" y="204120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285640" y="379404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1447920" y="3717720"/>
                  <a:ext cx="761760" cy="762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52880" y="12031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952880" y="2041200"/>
                  <a:ext cx="0" cy="13716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1599480" y="4022640"/>
                  <a:ext cx="2742840" cy="4572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2438280" y="4022640"/>
                  <a:ext cx="1904400" cy="4572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3733560" y="4022640"/>
                  <a:ext cx="609120" cy="3808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809880" y="50893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3885480" y="5775120"/>
                  <a:ext cx="75960" cy="304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962160" y="5775120"/>
                  <a:ext cx="1980720" cy="3808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705360" y="3031920"/>
                  <a:ext cx="0" cy="2895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5" name=""/>
          <p:cNvSpPr/>
          <p:nvPr/>
        </p:nvSpPr>
        <p:spPr>
          <a:xfrm>
            <a:off x="88920" y="6660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Ontology Structure: Plant structur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5410080"/>
            <a:ext cx="304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 generic tree one does see a relationship between the terms but it is not ap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3D46-6C08-45FB-BFB1-A6A2C38946B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772400" y="385920"/>
            <a:ext cx="1066680" cy="228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50960" y="669960"/>
            <a:ext cx="6324120" cy="5898600"/>
            <a:chOff x="1650960" y="669960"/>
            <a:chExt cx="6324120" cy="5898600"/>
          </a:xfrm>
        </p:grpSpPr>
        <p:sp>
          <p:nvSpPr>
            <p:cNvPr id="110" name=""/>
            <p:cNvSpPr/>
            <p:nvPr/>
          </p:nvSpPr>
          <p:spPr>
            <a:xfrm>
              <a:off x="4927320" y="669960"/>
              <a:ext cx="1666440" cy="414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lant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84120" y="2422440"/>
              <a:ext cx="1447560" cy="414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floresc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12720" y="3260520"/>
              <a:ext cx="990360" cy="414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l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61040" y="2498400"/>
              <a:ext cx="914040" cy="412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iss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32240" y="1508040"/>
              <a:ext cx="914040" cy="412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rg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6120" y="6080040"/>
              <a:ext cx="1066320" cy="412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apet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36600" y="4555800"/>
              <a:ext cx="990360" cy="412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am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41520" y="5317920"/>
              <a:ext cx="1142640" cy="412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n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89240" y="6156000"/>
              <a:ext cx="1066320" cy="412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oll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84120" y="1508040"/>
              <a:ext cx="1302840" cy="414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ho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55920" y="3590640"/>
              <a:ext cx="1294920" cy="3459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loral org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50960" y="4555800"/>
              <a:ext cx="990360" cy="412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p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93600" y="4555800"/>
              <a:ext cx="990360" cy="412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143080" y="1031760"/>
            <a:ext cx="5333760" cy="5104800"/>
            <a:chOff x="2143080" y="1031760"/>
            <a:chExt cx="5333760" cy="5104800"/>
          </a:xfrm>
        </p:grpSpPr>
        <p:sp>
          <p:nvSpPr>
            <p:cNvPr id="124" name=""/>
            <p:cNvSpPr/>
            <p:nvPr/>
          </p:nvSpPr>
          <p:spPr>
            <a:xfrm flipH="1">
              <a:off x="2295360" y="4003560"/>
              <a:ext cx="2743200" cy="4572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184560" y="3978000"/>
              <a:ext cx="1905120" cy="4572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428720" y="4003560"/>
              <a:ext cx="609480" cy="3808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143080" y="1031760"/>
              <a:ext cx="5333760" cy="5104800"/>
              <a:chOff x="2143080" y="1031760"/>
              <a:chExt cx="5333760" cy="5104800"/>
            </a:xfrm>
          </p:grpSpPr>
          <p:sp>
            <p:nvSpPr>
              <p:cNvPr id="128" name=""/>
              <p:cNvSpPr/>
              <p:nvPr/>
            </p:nvSpPr>
            <p:spPr>
              <a:xfrm flipH="1">
                <a:off x="3514680" y="1031760"/>
                <a:ext cx="1295280" cy="53316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828880" y="2860200"/>
                <a:ext cx="0" cy="30456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828880" y="2022120"/>
                <a:ext cx="0" cy="3805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981160" y="3698640"/>
                <a:ext cx="1295280" cy="7614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81160" y="3774600"/>
                <a:ext cx="0" cy="6854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143080" y="3698640"/>
                <a:ext cx="761760" cy="7614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648040" y="1184040"/>
                <a:ext cx="0" cy="2282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48040" y="2022120"/>
                <a:ext cx="0" cy="13712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05040" y="5070240"/>
                <a:ext cx="0" cy="1519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581360" y="5756040"/>
                <a:ext cx="76320" cy="3042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57680" y="5756040"/>
                <a:ext cx="1981080" cy="3805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15080" y="1107720"/>
                <a:ext cx="761760" cy="121896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400880" y="3012840"/>
                <a:ext cx="0" cy="289512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7238880" y="604800"/>
            <a:ext cx="1718640" cy="615960"/>
            <a:chOff x="7238880" y="604800"/>
            <a:chExt cx="1718640" cy="615960"/>
          </a:xfrm>
        </p:grpSpPr>
        <p:sp>
          <p:nvSpPr>
            <p:cNvPr id="142" name=""/>
            <p:cNvSpPr/>
            <p:nvPr/>
          </p:nvSpPr>
          <p:spPr>
            <a:xfrm>
              <a:off x="8053560" y="60480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Part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19320" y="85248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ahoma"/>
                </a:rPr>
                <a:t>Instance 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38880" y="1066680"/>
              <a:ext cx="30492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48720" y="762120"/>
              <a:ext cx="228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88920" y="6660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Ontology Structure: Plant Structur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305920" y="6477120"/>
            <a:ext cx="685800" cy="222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5105520"/>
            <a:ext cx="350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ontology tree the relationships between the terms become more apparent based on the biological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4E3A-B812-464C-AEA3-5B40A53346C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6:57:32Z</dcterms:created>
  <dc:creator>pankaj</dc:creator>
  <dc:description/>
  <dc:language>en-US</dc:language>
  <cp:lastModifiedBy>Pankaj Jaiswal</cp:lastModifiedBy>
  <dcterms:modified xsi:type="dcterms:W3CDTF">2005-01-08T02:20:52Z</dcterms:modified>
  <cp:revision>24</cp:revision>
  <dc:subject/>
  <dc:title>PowerPoint Presentation</dc:title>
</cp:coreProperties>
</file>