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pct" ContentType="image/x-pict"/>
  <Override PartName="/ppt/media/image10.png" ContentType="image/png"/>
  <Override PartName="/ppt/media/image7.pct" ContentType="image/x-pict"/>
  <Override PartName="/ppt/media/image11.png" ContentType="image/png"/>
  <Override PartName="/ppt/media/image6.png" ContentType="image/png"/>
  <Override PartName="/ppt/media/image17.pct" ContentType="image/x-pict"/>
  <Override PartName="/ppt/media/image3.png" ContentType="image/png"/>
  <Override PartName="/ppt/media/image14.pct" ContentType="image/x-pict"/>
  <Override PartName="/ppt/media/image5.png" ContentType="image/png"/>
  <Override PartName="/ppt/media/image16.pct" ContentType="image/x-pict"/>
  <Override PartName="/ppt/media/image2.pct" ContentType="image/x-pict"/>
  <Override PartName="/ppt/media/image25.pct" ContentType="image/x-pict"/>
  <Override PartName="/ppt/media/image29.pct" ContentType="image/x-pict"/>
  <Override PartName="/ppt/media/image28.pct" ContentType="image/x-pict"/>
  <Override PartName="/ppt/media/image27.pct" ContentType="image/x-pict"/>
  <Override PartName="/ppt/media/image4.png" ContentType="image/png"/>
  <Override PartName="/ppt/media/image15.pct" ContentType="image/x-pict"/>
  <Override PartName="/ppt/media/image26.pct" ContentType="image/x-pict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.pct" ContentType="image/x-pict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07AB-CFFB-499A-A551-8E9114C5B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page and nav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number and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&amp; Gramene 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 &amp;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B70-61B3-4D6A-A62C-F2F1CC0D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AD6-F5E9-4F98-83EE-85D383FA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176-DBF3-4B81-8C1A-DB8DF7E8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79C-9AB4-4776-97CD-5E1DB4CA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F43C-4B34-46BB-B387-BD4FAD49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B70B-0BE0-4831-93C0-7395E0FF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78D6-7172-4071-9916-ADCB7B4B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C58E-CDF3-4BAD-8CCB-38BA426E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A722-7276-4AE7-8CB6-4EF95F0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E1C2-287E-464C-AF70-714FE5F3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8C4E-B1FA-4739-ABDD-D9F349AD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4BF-FD56-4E7A-88A5-0D811BC4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A216-82DB-4EA0-B5AF-1B1F8632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1168-2872-466A-9A4E-2550EA3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178D-DEF4-4A9D-8B45-0FEED2FF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59A1-EEB2-4AB2-9184-B626CB18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02A6-3275-46D1-B74B-CE31695E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A54-070D-4759-A069-F36AB17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392-F31E-4DA1-A174-603E9251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D50-2C27-4B46-8C95-ABBE80D1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D65-91FA-4A3F-AA68-BF29F971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40C-A5BB-4A52-B1D8-1E54E40A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7A1-7CD1-4A66-A8D0-8168A71C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3A3-E00C-4FD2-AB87-44F98D5C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8000"/>
          </a:xfrm>
          <a:prstGeom prst="rect">
            <a:avLst/>
          </a:prstGeom>
          <a:solidFill>
            <a:srgbClr val="f8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A383-4533-49C7-877F-3D5B1F6E5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565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solidFill>
            <a:srgbClr val="899a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 flipH="1">
            <a:off x="7881840" y="5519880"/>
            <a:ext cx="1262160" cy="13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6E92-B8B4-4AF4-BDBF-1BDFFC693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200400"/>
            <a:ext cx="7772400" cy="380880"/>
          </a:xfrm>
          <a:prstGeom prst="rect">
            <a:avLst/>
          </a:prstGeom>
          <a:solidFill>
            <a:srgbClr val="899a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image" Target="../media/image27.pct"/><Relationship Id="rId4" Type="http://schemas.openxmlformats.org/officeDocument/2006/relationships/image" Target="../media/image28.pct"/><Relationship Id="rId5" Type="http://schemas.openxmlformats.org/officeDocument/2006/relationships/image" Target="../media/image29.pct"/><Relationship Id="rId6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Using Gramene For Maize-Rice Genome Comparisons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th Annual Maize Genetics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-25 March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48240" y="328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Rice Genome - Detailed View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1479600"/>
            <a:ext cx="6553080" cy="499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2"/>
          <a:srcRect l="73948" t="47908" r="1521" b="35507"/>
          <a:stretch/>
        </p:blipFill>
        <p:spPr>
          <a:xfrm>
            <a:off x="6234120" y="3903840"/>
            <a:ext cx="1663560" cy="8236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aize Maps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neighbors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2 neighbors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R IBM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NL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C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U H123/AG19 BC1 QT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SU B73/Mo17 QTL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RA Io/F2 Composite QTL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wa Mo17/H99 RI QTL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MMYT Ac7729/Ac7643S QTL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logna Os420/Iab78 QTL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aize Bin Map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6658" t="386301" r="1762965" b="1293973"/>
          <a:stretch/>
        </p:blipFill>
        <p:spPr>
          <a:xfrm>
            <a:off x="609480" y="1676520"/>
            <a:ext cx="5639040" cy="227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1757779" t="386301" r="8329" b="1293973"/>
          <a:stretch/>
        </p:blipFill>
        <p:spPr>
          <a:xfrm>
            <a:off x="2743200" y="4114800"/>
            <a:ext cx="56116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aize chr 1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97987" t="19083" r="59396" b="1130183"/>
          <a:stretch/>
        </p:blipFill>
        <p:spPr>
          <a:xfrm>
            <a:off x="3733920" y="1447920"/>
            <a:ext cx="2001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aize chr 1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7436" t="10151" r="29402" b="1343933"/>
          <a:stretch/>
        </p:blipFill>
        <p:spPr>
          <a:xfrm>
            <a:off x="2725560" y="1447920"/>
            <a:ext cx="3903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Rice chr 8 - maize chr 1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1889" t="9659" r="10219" b="1537691"/>
          <a:stretch/>
        </p:blipFill>
        <p:spPr>
          <a:xfrm>
            <a:off x="228600" y="1828800"/>
            <a:ext cx="86868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arker Database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-200" b="27581"/>
          <a:stretch/>
        </p:blipFill>
        <p:spPr>
          <a:xfrm>
            <a:off x="380880" y="1600200"/>
            <a:ext cx="5334120" cy="2743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486560" cy="3078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35" name="" descr=""/>
          <p:cNvPicPr/>
          <p:nvPr/>
        </p:nvPicPr>
        <p:blipFill>
          <a:blip r:embed="rId3"/>
          <a:srcRect l="0" t="11119" r="0" b="0"/>
          <a:stretch/>
        </p:blipFill>
        <p:spPr>
          <a:xfrm>
            <a:off x="2438280" y="4495680"/>
            <a:ext cx="6172200" cy="1739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Ontologies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structure (morphology, organs, tissue and cell ty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traits and ph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log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a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on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Taxonomy Ontology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19840" cy="4894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rcRect l="0" t="82909" r="27376" b="0"/>
          <a:stretch/>
        </p:blipFill>
        <p:spPr>
          <a:xfrm>
            <a:off x="609480" y="5105520"/>
            <a:ext cx="7925040" cy="13395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Gene Ontology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57960" cy="50655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74200" cy="2997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www.gramene.org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47750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Defense response proteins in maize</a:t>
            </a:r>
            <a:endParaRPr b="0" lang="en-US" sz="40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17120" cy="40021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6" name=""/>
          <p:cNvSpPr/>
          <p:nvPr/>
        </p:nvSpPr>
        <p:spPr>
          <a:xfrm>
            <a:off x="2745720" y="2286000"/>
            <a:ext cx="4803120" cy="45972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t resistance-like protein RP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8360" y="5257800"/>
            <a:ext cx="4533120" cy="45972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t resistance protein Rp1-k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Gramene Staff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an McCo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een 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kaj Jais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 Buck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jian 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el Y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aak Te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n Ravenscr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h-Wei 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n Youens-Cl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uly Av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ya 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Spoo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an Ca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on W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y Casst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Thom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ngzhi L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re Hebb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05280" y="3962520"/>
            <a:ext cx="677880" cy="68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048120" y="6218280"/>
            <a:ext cx="609480" cy="411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962520" y="6083280"/>
            <a:ext cx="685800" cy="622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9528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d3e6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GRAMENE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ramene.or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ene@gramen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aize Species Pages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848720" cy="4060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aize Queries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90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2"/>
          <a:srcRect l="0" t="43483" r="31817" b="39440"/>
          <a:stretch/>
        </p:blipFill>
        <p:spPr>
          <a:xfrm>
            <a:off x="685800" y="3505320"/>
            <a:ext cx="8001000" cy="1466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Gramene Modules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es [Ensemb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s, markers, genes, etc. from Poaceae on rice, maize &amp; Arabidop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similarity search to gen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[CMa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map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, physical, sequence &amp; QTL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arkers and map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marke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ss proteins from Swissprot &amp; Tr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ar location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s and alleles associated with phen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ative trait loci from major cereal cr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d vocabu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aize Genome Browser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892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Synteny Viewer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3533760" cy="4648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5208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aize Genome Viewer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676840" cy="4903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2"/>
          <a:srcRect l="54277" t="55216" r="19496" b="15388"/>
          <a:stretch/>
        </p:blipFill>
        <p:spPr>
          <a:xfrm>
            <a:off x="4923000" y="4191120"/>
            <a:ext cx="149544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Rice Genome Viewer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61400" cy="3557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57:18Z</dcterms:created>
  <dc:creator>Noel Yap</dc:creator>
  <dc:description/>
  <dc:language>en-US</dc:language>
  <cp:lastModifiedBy>Noel Yap</cp:lastModifiedBy>
  <dcterms:modified xsi:type="dcterms:W3CDTF">2007-03-23T21:34:42Z</dcterms:modified>
  <cp:revision>37</cp:revision>
  <dc:subject/>
  <dc:title>Using Gramene For Maize-Rice Genome Comparisons</dc:title>
</cp:coreProperties>
</file>