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wmf" ContentType="image/x-wmf"/>
  <Override PartName="/ppt/media/image4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B6AC-43EA-4D95-8A8E-DA1FA4AAF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345F-820A-422C-B966-A0556F92F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64D6-6375-4A27-88F5-83DE356FF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C4B5-63E6-4710-BC57-4046A9EE6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B84ED-D0C4-4861-9F17-08FC12C02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318F6-30D8-4641-A9F5-B911321FA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8303A-434C-423C-B9A2-DB80D7FFE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881EE-91A0-4CE8-BB79-9EFF3201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516CB-0659-46BC-B768-B21C6C6E5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77221-0146-470E-9F11-74FD08E7C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122FA-82DE-4B05-BE87-0B525408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90D5-1081-4BC3-A391-8A681135E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3A365-5B06-4E67-8FFE-AFC952E9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419EE-D3F8-4332-AA71-65461295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796D1-4F76-41B0-989B-D9027252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8C5D8-FC02-4FD4-8745-3F8A341A2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F9C26-075E-466D-9195-CDD0A3505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A22B-9A13-4250-9D40-9A6737208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C198-ED87-4657-ADD8-141AB4A5B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2572-2211-4984-91A0-7D553C4C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3A06-76FC-4D9E-B94B-1E6053D25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2D0D-8257-4E45-8839-95BED904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A46B-8A3E-4AEE-B964-C8E458EA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4ACD-357A-4516-9B06-0E801080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hyperlink" Target="http://www.cshl.edu/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www.cornell.edu/" TargetMode="External"/><Relationship Id="rId6" Type="http://schemas.openxmlformats.org/officeDocument/2006/relationships/image" Target="../media/image3.png"/><Relationship Id="rId7" Type="http://schemas.openxmlformats.org/officeDocument/2006/relationships/hyperlink" Target="http://www.nsf.gov/" TargetMode="External"/><Relationship Id="rId8" Type="http://schemas.openxmlformats.org/officeDocument/2006/relationships/image" Target="../media/image4.png"/><Relationship Id="rId9" Type="http://schemas.openxmlformats.org/officeDocument/2006/relationships/hyperlink" Target="http://www.csrees.usda.gov/" TargetMode="External"/><Relationship Id="rId10" Type="http://schemas.openxmlformats.org/officeDocument/2006/relationships/image" Target="../media/image5.png"/><Relationship Id="rId11" Type="http://schemas.openxmlformats.org/officeDocument/2006/relationships/hyperlink" Target="http://www.ars.usda.gov/" TargetMode="External"/><Relationship Id="rId12" Type="http://schemas.openxmlformats.org/officeDocument/2006/relationships/image" Target="../media/image6.jpeg"/><Relationship Id="rId13" Type="http://schemas.openxmlformats.org/officeDocument/2006/relationships/hyperlink" Target="http://www.usda.gov/" TargetMode="External"/><Relationship Id="rId14" Type="http://schemas.openxmlformats.org/officeDocument/2006/relationships/image" Target="../media/image7.jpe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5415D-F94F-4556-955E-A1732047E6B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3914C-8F48-4B5E-A943-9CBC69352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272BE-75A1-4DBA-867E-DD353E971E7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DF54D-F012-4FE1-B24A-72490B539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819520" y="2070000"/>
            <a:ext cx="3657600" cy="1359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800" y="-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596960" y="5638680"/>
            <a:ext cx="5949720" cy="571680"/>
            <a:chOff x="1596960" y="5638680"/>
            <a:chExt cx="5949720" cy="571680"/>
          </a:xfrm>
        </p:grpSpPr>
        <p:pic>
          <p:nvPicPr>
            <p:cNvPr id="47" name="" descr="CSHL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1596960" y="5683320"/>
              <a:ext cx="47628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CORNELL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2674800" y="5653080"/>
              <a:ext cx="55224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NSF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3738240" y="5638680"/>
              <a:ext cx="57168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CSREES">
              <a:hlinkClick r:id="rId9"/>
            </p:cNvPr>
            <p:cNvPicPr/>
            <p:nvPr/>
          </p:nvPicPr>
          <p:blipFill>
            <a:blip r:embed="rId10"/>
            <a:stretch/>
          </p:blipFill>
          <p:spPr>
            <a:xfrm>
              <a:off x="4806720" y="5645160"/>
              <a:ext cx="619200" cy="56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ARS">
              <a:hlinkClick r:id="rId11"/>
            </p:cNvPr>
            <p:cNvPicPr/>
            <p:nvPr/>
          </p:nvPicPr>
          <p:blipFill>
            <a:blip r:embed="rId12"/>
            <a:stretch/>
          </p:blipFill>
          <p:spPr>
            <a:xfrm>
              <a:off x="5989320" y="5843520"/>
              <a:ext cx="466920" cy="3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USDA">
              <a:hlinkClick r:id="rId13"/>
            </p:cNvPr>
            <p:cNvPicPr/>
            <p:nvPr/>
          </p:nvPicPr>
          <p:blipFill>
            <a:blip r:embed="rId14"/>
            <a:stretch/>
          </p:blipFill>
          <p:spPr>
            <a:xfrm>
              <a:off x="7070400" y="5865840"/>
              <a:ext cx="476280" cy="3240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www.gramene.org/db/literature/pub_search?ref_id=9468" TargetMode="External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680160" y="4876920"/>
            <a:ext cx="2463840" cy="1847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0" y="533520"/>
            <a:ext cx="2463840" cy="18478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990360" y="1980720"/>
            <a:ext cx="66294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erature searches are a good option for beginning your Gramene searc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tutorial will describe how to search for citations on rice, as well as other species in this databa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erature search results provide links to publication sources and other Gramene databases where availabl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lcome to the Literature Tuto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20120" y="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amene v.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3B0D-E1E3-417A-B99C-DEDAFDBD9103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125033-1CA1-4433-9FC0-B71F344E32D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7360" y="264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utorial Tip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1181160" cy="8208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752480" y="16765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are viewing this tutorial with Adobe Acrobat Reader, click the "bookmarks" on the left hand side of the Reader for easier navig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396252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e72619"/>
                </a:solidFill>
                <a:latin typeface="Arial"/>
              </a:rPr>
              <a:t>Note! Although we continually work to make Gramene compatible with all browsers, there are problems with some browser versions. If you're having difficulty viewing Gramene, try using a different browser. Please report any problems with browsers through Gramene Feedba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7B54-7EAE-42A0-AAD1-1F06D9A2FE9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6A5B10-AA82-423E-9EC5-3E262EBAF73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8226720" cy="40388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mene Home 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43200" y="3581280"/>
            <a:ext cx="2514600" cy="762120"/>
          </a:xfrm>
          <a:prstGeom prst="wedgeRoundRectCallout">
            <a:avLst>
              <a:gd name="adj1" fmla="val -50504"/>
              <a:gd name="adj2" fmla="val -77708"/>
              <a:gd name="adj3" fmla="val 16667"/>
            </a:avLst>
          </a:prstGeom>
          <a:solidFill>
            <a:srgbClr val="f3f9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 to open literature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867280" y="1066680"/>
            <a:ext cx="2514600" cy="457200"/>
          </a:xfrm>
          <a:prstGeom prst="wedgeRoundRectCallout">
            <a:avLst>
              <a:gd name="adj1" fmla="val -25629"/>
              <a:gd name="adj2" fmla="val 8333"/>
              <a:gd name="adj3" fmla="val 16667"/>
            </a:avLst>
          </a:prstGeom>
          <a:solidFill>
            <a:srgbClr val="f3f9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gramen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FAE1-1EF3-4A6F-AF42-8B81E224AA5F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F49674-91E5-48B5-A398-75ACF7EC7F0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terature Home 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71600" y="1547640"/>
            <a:ext cx="8202600" cy="3762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581280" y="3733920"/>
            <a:ext cx="4038840" cy="1447560"/>
          </a:xfrm>
          <a:prstGeom prst="wedgeRoundRectCallout">
            <a:avLst>
              <a:gd name="adj1" fmla="val -40250"/>
              <a:gd name="adj2" fmla="val -148574"/>
              <a:gd name="adj3" fmla="val 16667"/>
            </a:avLst>
          </a:prstGeom>
          <a:solidFill>
            <a:srgbClr val="f3f9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Enter search term here: Keywork, author, title. Titles must be exactly the same as they are in the database, therefore it is usually better to search by key words or title fragment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238880" y="2362320"/>
            <a:ext cx="1905120" cy="609480"/>
          </a:xfrm>
          <a:prstGeom prst="wedgeRoundRectCallout">
            <a:avLst>
              <a:gd name="adj1" fmla="val -80666"/>
              <a:gd name="adj2" fmla="val -61981"/>
              <a:gd name="adj3" fmla="val 16667"/>
            </a:avLst>
          </a:prstGeom>
          <a:solidFill>
            <a:srgbClr val="f3f9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Click here to conduct 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2044800"/>
            <a:ext cx="1905120" cy="609480"/>
          </a:xfrm>
          <a:prstGeom prst="wedgeRoundRectCallout">
            <a:avLst>
              <a:gd name="adj1" fmla="val 45916"/>
              <a:gd name="adj2" fmla="val -108856"/>
              <a:gd name="adj3" fmla="val 16667"/>
            </a:avLst>
          </a:prstGeom>
          <a:solidFill>
            <a:srgbClr val="f3f9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adley Hand ITC"/>
              </a:rPr>
              <a:t>Links to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GN</a:t>
            </a:r>
            <a:r>
              <a:rPr b="0" lang="en-US" sz="1600" spc="-1" strike="noStrike">
                <a:solidFill>
                  <a:srgbClr val="000000"/>
                </a:solidFill>
                <a:latin typeface="Bradley Hand ITC"/>
              </a:rPr>
              <a:t> volumes 1-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3276720"/>
            <a:ext cx="2286000" cy="609480"/>
          </a:xfrm>
          <a:prstGeom prst="wedgeRoundRectCallout">
            <a:avLst>
              <a:gd name="adj1" fmla="val 92638"/>
              <a:gd name="adj2" fmla="val -303125"/>
              <a:gd name="adj3" fmla="val 16667"/>
            </a:avLst>
          </a:prstGeom>
          <a:solidFill>
            <a:srgbClr val="f3f9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adley Hand ITC"/>
              </a:rPr>
              <a:t>Links to Literatur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34120" y="1371600"/>
            <a:ext cx="2286000" cy="609480"/>
          </a:xfrm>
          <a:prstGeom prst="wedgeRoundRectCallout">
            <a:avLst>
              <a:gd name="adj1" fmla="val -86805"/>
              <a:gd name="adj2" fmla="val -3125"/>
              <a:gd name="adj3" fmla="val 16667"/>
            </a:avLst>
          </a:prstGeom>
          <a:solidFill>
            <a:srgbClr val="f3f9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adley Hand ITC"/>
              </a:rPr>
              <a:t>Links to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Q</a:t>
            </a:r>
            <a:r>
              <a:rPr b="0" lang="en-US" sz="1600" spc="-1" strike="noStrike">
                <a:solidFill>
                  <a:srgbClr val="000000"/>
                </a:solidFill>
                <a:latin typeface="Bradley Hand ITC"/>
              </a:rPr>
              <a:t> for Liter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C8E9-8822-4F95-B0BF-5517D7B4F795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0DDBE8-AF4A-44B8-B03D-39FFBF4B120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162640" cy="42145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erature Search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1905120"/>
            <a:ext cx="2514600" cy="838080"/>
          </a:xfrm>
          <a:prstGeom prst="wedgeRoundRectCallout">
            <a:avLst>
              <a:gd name="adj1" fmla="val 77902"/>
              <a:gd name="adj2" fmla="val 64013"/>
              <a:gd name="adj3" fmla="val 16667"/>
            </a:avLst>
          </a:prstGeom>
          <a:solidFill>
            <a:srgbClr val="f3f9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re are 336results for this search, with 20 shown on each p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486400" y="3276720"/>
            <a:ext cx="1981080" cy="1143000"/>
          </a:xfrm>
          <a:prstGeom prst="wedgeRoundRectCallout">
            <a:avLst>
              <a:gd name="adj1" fmla="val -28365"/>
              <a:gd name="adj2" fmla="val -61111"/>
              <a:gd name="adj3" fmla="val 16667"/>
            </a:avLst>
          </a:prstGeom>
          <a:solidFill>
            <a:srgbClr val="f3f9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here for more information on this article. </a:t>
            </a:r>
            <a:r>
              <a:rPr b="0" lang="en-US" sz="1600" spc="-1" strike="noStrike">
                <a:solidFill>
                  <a:srgbClr val="000000"/>
                </a:solidFill>
                <a:latin typeface="Bradley Hand ITC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Bradley Hand ITC"/>
              </a:rPr>
              <a:t>see next slide</a:t>
            </a:r>
            <a:r>
              <a:rPr b="0" lang="en-US" sz="1600" spc="-1" strike="noStrike">
                <a:solidFill>
                  <a:srgbClr val="000000"/>
                </a:solidFill>
                <a:latin typeface="Bradley Hand ITC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3080" y="1447920"/>
            <a:ext cx="2362320" cy="1143000"/>
          </a:xfrm>
          <a:prstGeom prst="wedgeRoundRectCallout">
            <a:avLst>
              <a:gd name="adj1" fmla="val -80509"/>
              <a:gd name="adj2" fmla="val 71249"/>
              <a:gd name="adj3" fmla="val 16667"/>
            </a:avLst>
          </a:prstGeom>
          <a:solidFill>
            <a:srgbClr val="f3f9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re are 17 pages of results, and clicking on “next” will open the next p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86200" y="4648320"/>
            <a:ext cx="2895480" cy="990360"/>
          </a:xfrm>
          <a:prstGeom prst="wedgeRoundRectCallout">
            <a:avLst>
              <a:gd name="adj1" fmla="val -97861"/>
              <a:gd name="adj2" fmla="val -41185"/>
              <a:gd name="adj3" fmla="val 16667"/>
            </a:avLst>
          </a:prstGeom>
          <a:solidFill>
            <a:srgbClr val="f3f9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ing on author’s name lets you view other articles in Gramene by that autho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4952880"/>
            <a:ext cx="2362320" cy="990720"/>
          </a:xfrm>
          <a:prstGeom prst="wedgeRoundRectCallout">
            <a:avLst>
              <a:gd name="adj1" fmla="val -20699"/>
              <a:gd name="adj2" fmla="val -163944"/>
              <a:gd name="adj3" fmla="val 16667"/>
            </a:avLst>
          </a:prstGeom>
          <a:solidFill>
            <a:srgbClr val="f3f9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ed publication titles open that publication’s websit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rId2"/>
          </p:cNvPr>
          <p:cNvSpPr/>
          <p:nvPr/>
        </p:nvSpPr>
        <p:spPr>
          <a:xfrm>
            <a:off x="6705720" y="33526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C801-784A-495F-9B2B-BC3B8EFDDDED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A3312E-8A9E-4423-917F-E26B25A79DE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226720" cy="37702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76720" y="5486400"/>
            <a:ext cx="2361960" cy="990720"/>
          </a:xfrm>
          <a:prstGeom prst="wedgeRoundRectCallout">
            <a:avLst>
              <a:gd name="adj1" fmla="val -89717"/>
              <a:gd name="adj2" fmla="val -107050"/>
              <a:gd name="adj3" fmla="val 16667"/>
            </a:avLst>
          </a:prstGeom>
          <a:solidFill>
            <a:srgbClr val="f3f9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here to link to cross-referenced resourc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1600200"/>
            <a:ext cx="2057400" cy="609480"/>
          </a:xfrm>
          <a:prstGeom prst="wedgeRoundRectCallout">
            <a:avLst>
              <a:gd name="adj1" fmla="val -3935"/>
              <a:gd name="adj2" fmla="val 181509"/>
              <a:gd name="adj3" fmla="val 16667"/>
            </a:avLst>
          </a:prstGeom>
          <a:solidFill>
            <a:srgbClr val="f3f9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mene’s ID </a:t>
            </a:r>
            <a:r>
              <a:rPr b="0" lang="en-US" sz="1600" spc="-1" strike="noStrike">
                <a:solidFill>
                  <a:srgbClr val="000000"/>
                </a:solidFill>
                <a:latin typeface="Bradley Hand ITC"/>
              </a:rPr>
              <a:t>for that re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8604-C130-4FE9-82EE-A9D2B57B830E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03EAC3-ED52-440B-8DF2-6DE98A97DDF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4800600" cy="379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33520" y="5330880"/>
            <a:ext cx="6248160" cy="1241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438280" y="4419720"/>
            <a:ext cx="6448680" cy="1164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ks with Gram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029200" y="1295280"/>
            <a:ext cx="3733920" cy="838440"/>
          </a:xfrm>
          <a:prstGeom prst="wedgeRoundRectCallout">
            <a:avLst>
              <a:gd name="adj1" fmla="val -59481"/>
              <a:gd name="adj2" fmla="val 250379"/>
              <a:gd name="adj3" fmla="val 16667"/>
            </a:avLst>
          </a:prstGeom>
          <a:solidFill>
            <a:srgbClr val="f3f9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adley Hand ITC"/>
              </a:rPr>
              <a:t>When a reference article shows a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sociation to Gramene DB</a:t>
            </a:r>
            <a:r>
              <a:rPr b="0" lang="en-US" sz="1600" spc="-1" strike="noStrike">
                <a:solidFill>
                  <a:srgbClr val="000000"/>
                </a:solidFill>
                <a:latin typeface="Bradley Hand ITC"/>
              </a:rPr>
              <a:t> objects it will be linked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47920" y="4495680"/>
            <a:ext cx="22860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057400" y="4419720"/>
            <a:ext cx="23623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40384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28800" y="388620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1726-7C39-461D-BC8A-8DF6D9B9F637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D5A29E-5FAD-4570-B586-3F5C3546D2E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667720" cy="530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57200" y="4495680"/>
            <a:ext cx="1600200" cy="6858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tact Grame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71800" y="3276720"/>
            <a:ext cx="5562720" cy="914400"/>
          </a:xfrm>
          <a:prstGeom prst="wedgeRoundRectCallout">
            <a:avLst>
              <a:gd name="adj1" fmla="val 49712"/>
              <a:gd name="adj2" fmla="val -152083"/>
              <a:gd name="adj3" fmla="val 16667"/>
            </a:avLst>
          </a:prstGeom>
          <a:solidFill>
            <a:srgbClr val="f3f9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the feedback button, located at the top of every page, to provide feedback or to ask questions about Grame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990720" y="5638680"/>
            <a:ext cx="1757160" cy="6001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600200" y="571500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ail Gramene at gramene@gramen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3520" y="4572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9874-7D84-4C48-8166-EE554B45BC00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8CF929-4FD2-44C8-A845-C67AA52AB09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1T13:14:21Z</dcterms:created>
  <dc:creator>Claire</dc:creator>
  <dc:description/>
  <dc:language>en-US</dc:language>
  <cp:lastModifiedBy>Claire Hebbard</cp:lastModifiedBy>
  <dcterms:modified xsi:type="dcterms:W3CDTF">2007-03-20T19:28:47Z</dcterms:modified>
  <cp:revision>30</cp:revision>
  <dc:subject/>
  <dc:title>Slide 1</dc:title>
</cp:coreProperties>
</file>